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A0F-3611-4CFA-A73F-886E1A13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250-BC23-4E07-AE4D-8D060DC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E0F-8E15-4D5E-AF9F-E830D4A1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C21-2BBA-40E3-B43D-28A5CF49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649-753E-4452-B864-654A69AD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BFC-4283-403E-AA43-47D5EF7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16D-B468-4020-B108-3BCB645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527-4C38-459A-9286-5FD386F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48D-EBD6-4CF1-9DEC-ADA03A8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52F-B25E-4A44-8886-9A16BAE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CB9-D828-487F-B63B-1DDA2A6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586-18DE-42A1-9274-80E4420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29E-7AE0-4DCB-9D99-D3ED722D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838080"/>
            <a:ext cx="298296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ύγχρονες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Θεωρίες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τοιχειωδών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ωματιδίων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7560" y="4005360"/>
            <a:ext cx="501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α Στοιχειώδη Σωματ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Οι Αλληλεπιδράσεις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Θεωρίες Βαθμ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Ηλεκτρομαγνητική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Ασθενής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Ισχυρή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Εν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ο Φαινόμενο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ο Καθιερωμένο Πρότυ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Μεγαλοεν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Υπερσυμμετρ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Χορδές και Μεμβρά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Συμπαγ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6720" y="35956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Ν.Δ. Τράκας (ΕΜ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76520" y="685800"/>
            <a:ext cx="373356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ΓΑΛΟΕΝΟΠΟΙ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447920"/>
            <a:ext cx="61722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προσπάθεια μείωσης των ελεύθερων παρ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έτρων οδηγεί σε θεωρίες βαθμίδας μ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γαλύτερη συμμετρία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5), SO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971800"/>
            <a:ext cx="61722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Ξεκινώντας από μια τέτοια ομάδα, με ενια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ένταση, οδηγούμαστε (με το φαινόμεν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 μικρότερες ομάδες και τελικά στο Κ.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4197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Πώς ξεχωρίζουν οι εντάσει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876920"/>
            <a:ext cx="609588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ένταση μιας αλληλεπί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δρασης εξαρτάται από τη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ενέργεια που τη μετρά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θωράκιση θετική ή αρνη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τική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038480" y="4952880"/>
            <a:ext cx="2438640" cy="1725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6934320"/>
            <a:ext cx="609588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ι εντάσεις του Κ.Π. ΔΕ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υναντώντα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πορούμε να μιλάμε γ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ενοποίησ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14800" y="7010280"/>
            <a:ext cx="2362320" cy="176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685800"/>
            <a:ext cx="289584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ΥΠΕΡΣΥΜΜΕΤ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6002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514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352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447920"/>
            <a:ext cx="3810240" cy="243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Είναι μια επιπλέον συμμ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ρία που συνδέει σωματ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με διαφορετικό σπι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Για κάθε σωματίδιο εισάγ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ον υπερσυμμετρικό σύντρο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φό τ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114800"/>
            <a:ext cx="6172200" cy="2209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ά νέα σωματίδια αλλά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ζουν την ενεργειακή εξέ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λιξη των εντάσε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2657520" cy="192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6553080"/>
            <a:ext cx="6248520" cy="198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Δεν έχει παρατηρηθεί κανένα υπερσυμμετρ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σωματίδιο. Η Υπερσυμμετρία είναι κρυμμέν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α υπερσυμμετρικά σωματίδια είναι βαρι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Αλά, δεν γνωρίζουμε τρόπο, αντίστοιχο τ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gs,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 για παραβίαση της υπερσυμμετρία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3400" y="1066680"/>
            <a:ext cx="542880" cy="906120"/>
            <a:chOff x="4343400" y="1066680"/>
            <a:chExt cx="542880" cy="906120"/>
          </a:xfrm>
        </p:grpSpPr>
        <p:sp>
          <p:nvSpPr>
            <p:cNvPr id="230" name=""/>
            <p:cNvSpPr/>
            <p:nvPr/>
          </p:nvSpPr>
          <p:spPr>
            <a:xfrm>
              <a:off x="4420800" y="106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4343400" y="14482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5638680" y="914400"/>
            <a:ext cx="542880" cy="1058400"/>
            <a:chOff x="5638680" y="914400"/>
            <a:chExt cx="542880" cy="1058400"/>
          </a:xfrm>
        </p:grpSpPr>
        <p:sp>
          <p:nvSpPr>
            <p:cNvPr id="233" name=""/>
            <p:cNvSpPr/>
            <p:nvPr/>
          </p:nvSpPr>
          <p:spPr>
            <a:xfrm>
              <a:off x="5640120" y="106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5000" y="9144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5638680" y="1448640"/>
              <a:ext cx="54288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4343400" y="1981080"/>
            <a:ext cx="542880" cy="906120"/>
            <a:chOff x="4343400" y="1981080"/>
            <a:chExt cx="542880" cy="906120"/>
          </a:xfrm>
        </p:grpSpPr>
        <p:sp>
          <p:nvSpPr>
            <p:cNvPr id="237" name=""/>
            <p:cNvSpPr/>
            <p:nvPr/>
          </p:nvSpPr>
          <p:spPr>
            <a:xfrm>
              <a:off x="4421520" y="198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4343400" y="23626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4343400" y="2895480"/>
            <a:ext cx="542880" cy="906120"/>
            <a:chOff x="4343400" y="2895480"/>
            <a:chExt cx="542880" cy="906120"/>
          </a:xfrm>
        </p:grpSpPr>
        <p:sp>
          <p:nvSpPr>
            <p:cNvPr id="240" name=""/>
            <p:cNvSpPr/>
            <p:nvPr/>
          </p:nvSpPr>
          <p:spPr>
            <a:xfrm>
              <a:off x="4497120" y="28954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4343400" y="32770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5638680" y="1828800"/>
            <a:ext cx="542880" cy="1058040"/>
            <a:chOff x="5638680" y="1828800"/>
            <a:chExt cx="542880" cy="1058040"/>
          </a:xfrm>
        </p:grpSpPr>
        <p:sp>
          <p:nvSpPr>
            <p:cNvPr id="243" name=""/>
            <p:cNvSpPr/>
            <p:nvPr/>
          </p:nvSpPr>
          <p:spPr>
            <a:xfrm>
              <a:off x="5716800" y="18288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638680" y="1981440"/>
              <a:ext cx="542880" cy="905400"/>
              <a:chOff x="5638680" y="1981440"/>
              <a:chExt cx="542880" cy="905400"/>
            </a:xfrm>
          </p:grpSpPr>
          <p:sp>
            <p:nvSpPr>
              <p:cNvPr id="245" name=""/>
              <p:cNvSpPr/>
              <p:nvPr/>
            </p:nvSpPr>
            <p:spPr>
              <a:xfrm>
                <a:off x="5716800" y="198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38680" y="2362680"/>
                <a:ext cx="542880" cy="52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"/>
          <p:cNvGrpSpPr/>
          <p:nvPr/>
        </p:nvGrpSpPr>
        <p:grpSpPr>
          <a:xfrm>
            <a:off x="5715000" y="2666880"/>
            <a:ext cx="542880" cy="1134720"/>
            <a:chOff x="5715000" y="2666880"/>
            <a:chExt cx="542880" cy="1134720"/>
          </a:xfrm>
        </p:grpSpPr>
        <p:grpSp>
          <p:nvGrpSpPr>
            <p:cNvPr id="248" name=""/>
            <p:cNvGrpSpPr/>
            <p:nvPr/>
          </p:nvGrpSpPr>
          <p:grpSpPr>
            <a:xfrm>
              <a:off x="5791320" y="2666880"/>
              <a:ext cx="342720" cy="612000"/>
              <a:chOff x="5791320" y="2666880"/>
              <a:chExt cx="342720" cy="612000"/>
            </a:xfrm>
          </p:grpSpPr>
          <p:sp>
            <p:nvSpPr>
              <p:cNvPr id="249" name=""/>
              <p:cNvSpPr/>
              <p:nvPr/>
            </p:nvSpPr>
            <p:spPr>
              <a:xfrm>
                <a:off x="5791320" y="2666880"/>
                <a:ext cx="34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92760" y="28191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5715000" y="32770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5280" y="762120"/>
            <a:ext cx="4343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ΧΟΡΔΕΣ ΚΑΙ ΜΕΜΒΡΑ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676520"/>
            <a:ext cx="533412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ωματίδια,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D=4=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βαντική Θεωρία Πεδί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όβλημα με τη Βαρύτη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8080" y="3352680"/>
            <a:ext cx="533412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Χορδές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ία Χορδώ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ριγράφει και τη Βαρύτη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419120" cy="228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38080" y="5181480"/>
            <a:ext cx="5334120" cy="175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μβράνε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ς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ά κ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άστατες μεμβράνε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-bra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343400" y="5334120"/>
            <a:ext cx="1295280" cy="90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66680" y="7238880"/>
            <a:ext cx="495324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Θεωρία Χορδών περιέχει όχι μό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χορδές, αλλά και σωματίδι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μβράνες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895480" y="34290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24080" y="5486400"/>
            <a:ext cx="3085920" cy="1839600"/>
            <a:chOff x="3124080" y="5486400"/>
            <a:chExt cx="3085920" cy="18396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3124080" y="5486400"/>
              <a:ext cx="3085920" cy="18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724280" y="6706800"/>
              <a:ext cx="106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Καθιερωμέν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Πρότυπ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360" y="68590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68520" y="61329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6 διαστάσει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886200" y="2590920"/>
            <a:ext cx="2514600" cy="1496880"/>
            <a:chOff x="3886200" y="2590920"/>
            <a:chExt cx="2514600" cy="149688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3886200" y="2590920"/>
              <a:ext cx="251460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H="1">
              <a:off x="5433120" y="2729160"/>
              <a:ext cx="70200" cy="27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990720" y="2743200"/>
            <a:ext cx="1590480" cy="1371600"/>
            <a:chOff x="990720" y="2743200"/>
            <a:chExt cx="1590480" cy="137160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990720" y="2743200"/>
              <a:ext cx="1590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37720" y="2932200"/>
              <a:ext cx="50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600200" y="762120"/>
            <a:ext cx="32767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ΥΜΠΑΓΟΠΟΙ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αλιά εικό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438280" y="2286000"/>
            <a:ext cx="2209680" cy="457200"/>
            <a:chOff x="2438280" y="2286000"/>
            <a:chExt cx="2209680" cy="457200"/>
          </a:xfrm>
        </p:grpSpPr>
        <p:sp>
          <p:nvSpPr>
            <p:cNvPr id="281" name=""/>
            <p:cNvSpPr/>
            <p:nvPr/>
          </p:nvSpPr>
          <p:spPr>
            <a:xfrm>
              <a:off x="2438280" y="2286000"/>
              <a:ext cx="220968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=10         D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864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23880" y="4191120"/>
            <a:ext cx="41911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ι 6 από τις 10 διαστά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ΥΜΠΑΓΟΠΟΙΟΥ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562720"/>
            <a:ext cx="19810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Νέα εικό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7467480"/>
            <a:ext cx="571500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 κόσμος μας είναι μια τετραδιάστατη επ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φάνεια μέσα σ’ ένα δεκαδιάστατο συνεχέ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2880" y="774720"/>
            <a:ext cx="613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Και βέβαια, θα μπορούσε κάποιος να υποστηρίξει απλά ότ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τα τρανζ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ί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στορ ήταν δυνατόν να είχαν ανακαλυφθεί από άτ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α που δεν εκπαιδεύτηκαν και δεν προσέφεραν στην κβαντ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ηχανική και την κβαντική θεωρία των στερεών. Αλλά αυτ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που συνέβη είναι ότι αυτοί που τ’ ανακάλυψαν είχαν προσφέ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ρει πολλά στην κβαντική θεωρί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5120" y="2984400"/>
            <a:ext cx="62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Θα μπορούσε κάποιος να αναρωτηθεί αν τα βασικά κυκλώμ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τα των ηλεκτρονικών υπολογιστών ήταν δυνατόν να έχουν 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νακαλυφθεί από τα άτομα που ήθελαν να κατασκευάσουν τ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ηλεκτρονικούς υπολογιστές. Αλλά, αυτό που συνέβη ήταν ότ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ανακαλύφθηκαν από φυσικούς που μετρούσαν πυρηνικά σω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ατίδια γιατί ενδιαφερόντουσαν για πυρηνική φυσική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" y="5210280"/>
            <a:ext cx="62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πορεί  κάποιος να ρωτήσει αν θα υπήρχε πυρηνική ενέργ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επειδή ο άνθρωπος ήθελε νέες πηγές ή αν η τάση για εύρε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νέων μορφών ενέργειας θα οδηγούσε στην ανακάλυψη του πυ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ρήνα. Ισως. Αλλά δεν συνέβη αυτ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6962760"/>
            <a:ext cx="62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Θα μπορούσε κάποιος να αναρωτηθεί αν η ηλεκτρονική βι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ηχανία θα μπορούσε να υπάρξει πριν ο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J.J. Thomson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.A. Lorentz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ανακαλύψουν το ηλεκτρόνιο. Και πάλι, αυτό δε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έγιν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760" y="-1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5335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" y="1522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4320" y="152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79440" y="838080"/>
            <a:ext cx="62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Κάποιος θα μπορούσε να αναρωτηθεί αν τα επαγωγικά πην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των μηχανών των αυτοκινήτων μπορούσαν να είχαν κατ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σκευαστεί από τις βιομηχανίες που ασχολούνται με τη συγκοι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νωνία και να είχαν βρεί και τους κανόνες της επαγωγής. Αλλ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αυτά τα ανακάλυψε ο </a:t>
            </a: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Faraday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πολύ πρι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7640" y="2725560"/>
            <a:ext cx="614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Ή ακόμα, σε μια προσπάθεια για καλύτερη επικοινωνία, θ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μπορούσε κάποιος να είχε ανακαλύψει τα ηλεκτρομαγνητικ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κύματα. Δεν βρέθηκαν με αυτόν τον τρόπο. Τα βρήκε ο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er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ο οποίος εκθείασε την ομορφιά της φυσικής και βασίστηκ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στις θεωρητικές επεξεργασίες του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ax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5480" y="46926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Φοβάμαι ότι δεν υπάρχει στον 20ο αιώνα, παράδειγμα καιν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τομίας που δεν οφείλει την ύπαρξή της στη βασική έρευν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880" y="5729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J. Casim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5335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" y="1522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4320" y="152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00480" y="76212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64008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ΘΕ ΘΕΩΡΙΑ ΠΟΥ ΠΡΟΣΠΑΘΕΙ 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ΕΡΙΓΡΑΨΕΙ ΤΗ ΦΥΣΗ ΠΡΕΠΕΙ ΝΑ ΕΙΝΑΙ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600200"/>
            <a:ext cx="3636720" cy="88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ΘΕΩΡΙΑ ΒΑΘΜΙΔ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uge The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632448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υτόματη παρουσία του ΔΙΑΔΟΤΗ της αλλη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λεπίδρασης που περιγράφει η θεωρία βαθμ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657600"/>
            <a:ext cx="632448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 Διαδότης είναι υποχρεωτικά ΑΜΑΖ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και έχε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648320"/>
            <a:ext cx="632448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Το μαθηματικό υπόβαθρο της Θεωρίας Βαθμί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δας περιγράφεται από τη θεωρία ΟΜΑ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867280"/>
            <a:ext cx="5715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άδα κατατάσσει τα σωματίδια σ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«πολλαπλότητε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7772400"/>
            <a:ext cx="57150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παραμένουν αναλλοίω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 μετασχηματισμούς της Ομά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858000"/>
            <a:ext cx="5715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άδα καθορίζει την πολλαπλότητα 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δοτ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151920" y="571500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7440" y="6591240"/>
            <a:ext cx="1143000" cy="60948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7440" y="7581960"/>
            <a:ext cx="1143000" cy="60948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838080"/>
            <a:ext cx="373356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ΛΕΚΤΡΟΜΑΓΝΗΤΙΚ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981080" y="3429000"/>
            <a:ext cx="1371600" cy="1752480"/>
            <a:chOff x="1981080" y="3429000"/>
            <a:chExt cx="1371600" cy="1752480"/>
          </a:xfrm>
        </p:grpSpPr>
        <p:sp>
          <p:nvSpPr>
            <p:cNvPr id="66" name=""/>
            <p:cNvSpPr/>
            <p:nvPr/>
          </p:nvSpPr>
          <p:spPr>
            <a:xfrm>
              <a:off x="19810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133360" y="3505320"/>
              <a:ext cx="113184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380880" y="3429000"/>
            <a:ext cx="1371600" cy="1752480"/>
            <a:chOff x="380880" y="3429000"/>
            <a:chExt cx="1371600" cy="1752480"/>
          </a:xfrm>
        </p:grpSpPr>
        <p:sp>
          <p:nvSpPr>
            <p:cNvPr id="69" name=""/>
            <p:cNvSpPr/>
            <p:nvPr/>
          </p:nvSpPr>
          <p:spPr>
            <a:xfrm>
              <a:off x="3808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56840" y="3505320"/>
              <a:ext cx="12099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990720" y="1905120"/>
            <a:ext cx="472428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Ασκείται μεταξύ των σωματιδίω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ου έχουν ηλεκτρικό φορτί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, u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581280" y="3429000"/>
            <a:ext cx="1371600" cy="1752480"/>
            <a:chOff x="3581280" y="3429000"/>
            <a:chExt cx="1371600" cy="1752480"/>
          </a:xfrm>
        </p:grpSpPr>
        <p:sp>
          <p:nvSpPr>
            <p:cNvPr id="73" name=""/>
            <p:cNvSpPr/>
            <p:nvPr/>
          </p:nvSpPr>
          <p:spPr>
            <a:xfrm>
              <a:off x="35812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657600" y="350496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181480" y="3429000"/>
            <a:ext cx="1371600" cy="1752480"/>
            <a:chOff x="5181480" y="3429000"/>
            <a:chExt cx="1371600" cy="1752480"/>
          </a:xfrm>
        </p:grpSpPr>
        <p:sp>
          <p:nvSpPr>
            <p:cNvPr id="76" name=""/>
            <p:cNvSpPr/>
            <p:nvPr/>
          </p:nvSpPr>
          <p:spPr>
            <a:xfrm>
              <a:off x="51814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257800" y="3505320"/>
              <a:ext cx="123840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914400" y="6477120"/>
            <a:ext cx="54864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τετριμμέ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φωτόνιο (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5410080"/>
            <a:ext cx="3276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7543800"/>
            <a:ext cx="54864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τιδίων: τετριμμέν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,d,e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5120" y="1752480"/>
            <a:ext cx="1371600" cy="1752480"/>
            <a:chOff x="1905120" y="1752480"/>
            <a:chExt cx="1371600" cy="1752480"/>
          </a:xfrm>
        </p:grpSpPr>
        <p:sp>
          <p:nvSpPr>
            <p:cNvPr id="85" name=""/>
            <p:cNvSpPr/>
            <p:nvPr/>
          </p:nvSpPr>
          <p:spPr>
            <a:xfrm>
              <a:off x="1905120" y="175248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981440" y="182880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29000" y="1752480"/>
            <a:ext cx="1371600" cy="1752480"/>
            <a:chOff x="3429000" y="1752480"/>
            <a:chExt cx="1371600" cy="1752480"/>
          </a:xfrm>
        </p:grpSpPr>
        <p:sp>
          <p:nvSpPr>
            <p:cNvPr id="88" name=""/>
            <p:cNvSpPr/>
            <p:nvPr/>
          </p:nvSpPr>
          <p:spPr>
            <a:xfrm>
              <a:off x="3429000" y="175248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505320" y="1828800"/>
              <a:ext cx="1238400" cy="16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523880" y="914400"/>
            <a:ext cx="37339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ΣΘΕΝ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553080"/>
            <a:ext cx="34290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05320" y="5029200"/>
            <a:ext cx="1143000" cy="1219320"/>
            <a:chOff x="3505320" y="5029200"/>
            <a:chExt cx="1143000" cy="1219320"/>
          </a:xfrm>
        </p:grpSpPr>
        <p:sp>
          <p:nvSpPr>
            <p:cNvPr id="93" name=""/>
            <p:cNvSpPr/>
            <p:nvPr/>
          </p:nvSpPr>
          <p:spPr>
            <a:xfrm>
              <a:off x="3505320" y="5029200"/>
              <a:ext cx="11430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3657600" y="5105520"/>
              <a:ext cx="8762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029200" y="5029200"/>
            <a:ext cx="1143000" cy="1219320"/>
            <a:chOff x="5029200" y="5029200"/>
            <a:chExt cx="1143000" cy="1219320"/>
          </a:xfrm>
        </p:grpSpPr>
        <p:sp>
          <p:nvSpPr>
            <p:cNvPr id="96" name=""/>
            <p:cNvSpPr/>
            <p:nvPr/>
          </p:nvSpPr>
          <p:spPr>
            <a:xfrm>
              <a:off x="5029200" y="5029200"/>
              <a:ext cx="11430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81840" y="5105520"/>
              <a:ext cx="83808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80880" y="1752480"/>
            <a:ext cx="1371600" cy="1752840"/>
            <a:chOff x="380880" y="1752480"/>
            <a:chExt cx="1371600" cy="1752840"/>
          </a:xfrm>
        </p:grpSpPr>
        <p:sp>
          <p:nvSpPr>
            <p:cNvPr id="99" name=""/>
            <p:cNvSpPr/>
            <p:nvPr/>
          </p:nvSpPr>
          <p:spPr>
            <a:xfrm>
              <a:off x="380880" y="1752480"/>
              <a:ext cx="137160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57200" y="182880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380880" y="3733920"/>
            <a:ext cx="2819520" cy="2590560"/>
            <a:chOff x="380880" y="3733920"/>
            <a:chExt cx="2819520" cy="2590560"/>
          </a:xfrm>
        </p:grpSpPr>
        <p:grpSp>
          <p:nvGrpSpPr>
            <p:cNvPr id="102" name=""/>
            <p:cNvGrpSpPr/>
            <p:nvPr/>
          </p:nvGrpSpPr>
          <p:grpSpPr>
            <a:xfrm>
              <a:off x="380880" y="3733920"/>
              <a:ext cx="2819520" cy="2590560"/>
              <a:chOff x="380880" y="3733920"/>
              <a:chExt cx="2819520" cy="2590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880" y="3733920"/>
                <a:ext cx="2819520" cy="259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7200" y="3809880"/>
                <a:ext cx="2685960" cy="243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1295280" y="4038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29000" y="3886200"/>
            <a:ext cx="32004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ιδίων: δι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696080"/>
            <a:ext cx="548640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τριπλέ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43400" y="6553080"/>
            <a:ext cx="1219320" cy="990360"/>
            <a:chOff x="4343400" y="6553080"/>
            <a:chExt cx="1219320" cy="990360"/>
          </a:xfrm>
        </p:grpSpPr>
        <p:sp>
          <p:nvSpPr>
            <p:cNvPr id="109" name=""/>
            <p:cNvSpPr/>
            <p:nvPr/>
          </p:nvSpPr>
          <p:spPr>
            <a:xfrm>
              <a:off x="4343400" y="6553080"/>
              <a:ext cx="121932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4419720" y="6629040"/>
              <a:ext cx="99036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29200" y="1752480"/>
            <a:ext cx="1371600" cy="1752840"/>
            <a:chOff x="5029200" y="1752480"/>
            <a:chExt cx="1371600" cy="1752840"/>
          </a:xfrm>
        </p:grpSpPr>
        <p:sp>
          <p:nvSpPr>
            <p:cNvPr id="115" name=""/>
            <p:cNvSpPr/>
            <p:nvPr/>
          </p:nvSpPr>
          <p:spPr>
            <a:xfrm>
              <a:off x="5029200" y="1752480"/>
              <a:ext cx="137160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105520" y="1828800"/>
              <a:ext cx="1247760" cy="16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-161604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7162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762120"/>
            <a:ext cx="373392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ΙΣΧΥΡ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505320"/>
            <a:ext cx="34290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320040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ιδίων: τρι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572000"/>
            <a:ext cx="3352680" cy="1066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κτα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γκλουόνια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81480" y="1600200"/>
            <a:ext cx="1371600" cy="1752480"/>
            <a:chOff x="5181480" y="1600200"/>
            <a:chExt cx="1371600" cy="1752480"/>
          </a:xfrm>
        </p:grpSpPr>
        <p:sp>
          <p:nvSpPr>
            <p:cNvPr id="124" name=""/>
            <p:cNvSpPr/>
            <p:nvPr/>
          </p:nvSpPr>
          <p:spPr>
            <a:xfrm>
              <a:off x="5181480" y="16002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257440" y="1676160"/>
              <a:ext cx="1209960" cy="159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228600" y="1600200"/>
            <a:ext cx="4800600" cy="15238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ισχυρή αλληλεπίδραση είναι 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 der Waals”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υνάμεις 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ΒΑΝΤΙΚ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ΡΩΜΟΔΥΝΑΜΙΚ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600" y="5791320"/>
            <a:ext cx="1143000" cy="1218960"/>
            <a:chOff x="3657600" y="5791320"/>
            <a:chExt cx="1143000" cy="1218960"/>
          </a:xfrm>
        </p:grpSpPr>
        <p:sp>
          <p:nvSpPr>
            <p:cNvPr id="128" name=""/>
            <p:cNvSpPr/>
            <p:nvPr/>
          </p:nvSpPr>
          <p:spPr>
            <a:xfrm>
              <a:off x="3657600" y="5791320"/>
              <a:ext cx="11430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3733560" y="5867280"/>
              <a:ext cx="943200" cy="106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105520" y="5791320"/>
            <a:ext cx="1371600" cy="1218960"/>
            <a:chOff x="5105520" y="5791320"/>
            <a:chExt cx="1371600" cy="1218960"/>
          </a:xfrm>
        </p:grpSpPr>
        <p:sp>
          <p:nvSpPr>
            <p:cNvPr id="131" name=""/>
            <p:cNvSpPr/>
            <p:nvPr/>
          </p:nvSpPr>
          <p:spPr>
            <a:xfrm>
              <a:off x="5105520" y="5791320"/>
              <a:ext cx="13716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10440" y="5867280"/>
              <a:ext cx="876240" cy="108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228600" y="7162920"/>
            <a:ext cx="6400800" cy="1752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Δεν μπορούν να παρατηρηθούν ελ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θερα κουάρ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ι γκλουόνια. Η Ισχυρή αλληλεπίδρ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μεταξύ των αδρονίων γίνεται με ανταλλαγ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άχρωμων” καταστά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3429000"/>
            <a:ext cx="2819520" cy="2438280"/>
            <a:chOff x="228600" y="3429000"/>
            <a:chExt cx="2819520" cy="2438280"/>
          </a:xfrm>
        </p:grpSpPr>
        <p:sp>
          <p:nvSpPr>
            <p:cNvPr id="135" name=""/>
            <p:cNvSpPr/>
            <p:nvPr/>
          </p:nvSpPr>
          <p:spPr>
            <a:xfrm>
              <a:off x="228600" y="3429000"/>
              <a:ext cx="2819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304920" y="3624120"/>
              <a:ext cx="268596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7160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685800"/>
            <a:ext cx="46483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ΕΝΝΟΙΑ ΤΗΣ ΕΝΟΠΟΙ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371600"/>
            <a:ext cx="60199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ροσπάθεια περιγραφής “πολλών” από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ο δυνατόν πιο “λίγα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362320"/>
            <a:ext cx="4648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ton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ίγεια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Ουράνεια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ηχανικ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429000"/>
            <a:ext cx="46483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we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νοποίηση Φωτό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λεκτρισμού και Μαγνητισμο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4419720"/>
            <a:ext cx="4648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instein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Βαρύτη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Γεωμετρίας του Χωρο-χρόν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51460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50532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9568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486400"/>
            <a:ext cx="464832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Ασθεν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Ηλεκτρομαγνητικ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ίδραση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63868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858000"/>
            <a:ext cx="601992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ά ΠΩΣ τις ενοποιούμε ότα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) Εχουν τόσο διαφορετική ισχύ (1: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) Οι Θεωρίες Βαθμίδας έχουν άμαζ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δότες ενώ η Ασθενής αλληλεπίδρ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έλε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διαδότες με μάζ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762120"/>
            <a:ext cx="373392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ο ΦΑΙΝΟΜΕΝΟ Η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563868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που περιγράφουν 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ία είναι αναλλοίωτες σ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μμετρία Βαθμίδα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κατανομή των πεδίων στην ελάχισ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έργεια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ΕΝ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</a:rPr>
              <a:t>ΔΕΝ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ίνα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114800"/>
            <a:ext cx="59436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ανάπτυξη της θεω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ο ΜΗ ΣΥΜΜΕΤΡΙΚ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ενό, μας “κρύβει” 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υμμετρία μας. Αυτό μ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πιτρέπει να δίνουμε μάζ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ους διαδότε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152440" cy="1828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904760" y="5105520"/>
            <a:ext cx="24382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0"/>
            <a:ext cx="6324480" cy="182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παρουσία του ΜΗ ΣΥΜΜΕΤΡΙΚΟΥ κεν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πιτυγχάνεται με την προσθήκη του σωματιδ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ε κατάλληλο δυναμικό. Οι αλληλεπιδρά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ις το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δίνουν μάζα στα κουάρκ κα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α λεπτόν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609480" y="4495680"/>
            <a:ext cx="1905120" cy="1981080"/>
            <a:chOff x="609480" y="4495680"/>
            <a:chExt cx="1905120" cy="1981080"/>
          </a:xfrm>
        </p:grpSpPr>
        <p:sp>
          <p:nvSpPr>
            <p:cNvPr id="165" name=""/>
            <p:cNvSpPr/>
            <p:nvPr/>
          </p:nvSpPr>
          <p:spPr>
            <a:xfrm>
              <a:off x="609480" y="4495680"/>
              <a:ext cx="1905120" cy="1981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2120" y="4647960"/>
              <a:ext cx="1657080" cy="1609560"/>
              <a:chOff x="762120" y="4647960"/>
              <a:chExt cx="1657080" cy="16095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647960"/>
                <a:ext cx="1657080" cy="16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371240" y="6019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99840" y="51811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038480" y="4495680"/>
            <a:ext cx="2133720" cy="1981080"/>
            <a:chOff x="4038480" y="4495680"/>
            <a:chExt cx="2133720" cy="1981080"/>
          </a:xfrm>
        </p:grpSpPr>
        <p:sp>
          <p:nvSpPr>
            <p:cNvPr id="171" name=""/>
            <p:cNvSpPr/>
            <p:nvPr/>
          </p:nvSpPr>
          <p:spPr>
            <a:xfrm>
              <a:off x="4038480" y="4495680"/>
              <a:ext cx="2133720" cy="1981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191120" y="4724280"/>
              <a:ext cx="1790640" cy="15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2590920" y="4800600"/>
            <a:ext cx="1447560" cy="1504800"/>
            <a:chOff x="2590920" y="4800600"/>
            <a:chExt cx="1447560" cy="1504800"/>
          </a:xfrm>
        </p:grpSpPr>
        <p:sp>
          <p:nvSpPr>
            <p:cNvPr id="174" name=""/>
            <p:cNvSpPr/>
            <p:nvPr/>
          </p:nvSpPr>
          <p:spPr>
            <a:xfrm>
              <a:off x="2590920" y="6019560"/>
              <a:ext cx="228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90920" y="4800600"/>
              <a:ext cx="1447560" cy="1504800"/>
              <a:chOff x="2590920" y="4800600"/>
              <a:chExt cx="1447560" cy="15048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743200" y="4800600"/>
                <a:ext cx="1295280" cy="1504800"/>
                <a:chOff x="2743200" y="4800600"/>
                <a:chExt cx="1295280" cy="1504800"/>
              </a:xfrm>
            </p:grpSpPr>
            <p:pic>
              <p:nvPicPr>
                <p:cNvPr id="1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43200" y="4800600"/>
                  <a:ext cx="1295280" cy="15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2972520" y="533376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igg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666880" y="48765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66880" y="52578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90920" y="5638680"/>
                <a:ext cx="304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19520" y="5638680"/>
                <a:ext cx="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19520" y="5867280"/>
                <a:ext cx="838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57600" y="5715000"/>
                <a:ext cx="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57600" y="5715000"/>
                <a:ext cx="304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7600" y="6095880"/>
                <a:ext cx="304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09480" y="2514600"/>
            <a:ext cx="579132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Ξεκινάμε με μια Θεωρία Βαθμίδας 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+1 Αμαζους διαδότες και με τ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φαινόμενο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igg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ταλήγουμε σ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 διαδότες με μάζα και έναν άμαζ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6629400"/>
            <a:ext cx="5791320" cy="1905120"/>
            <a:chOff x="609480" y="6629400"/>
            <a:chExt cx="5791320" cy="1905120"/>
          </a:xfrm>
        </p:grpSpPr>
        <p:sp>
          <p:nvSpPr>
            <p:cNvPr id="189" name=""/>
            <p:cNvSpPr/>
            <p:nvPr/>
          </p:nvSpPr>
          <p:spPr>
            <a:xfrm>
              <a:off x="609480" y="6629400"/>
              <a:ext cx="5791320" cy="1905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Οι εντάσεις των δυο αλληλεπιδράσεων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    SU(2), g’    U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Ηλεκτρομαγνητισμός……………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 sin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Ασθενής Αλληλεπίδραση…………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/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g’/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8280" y="7238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7238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62120" y="762120"/>
            <a:ext cx="5562360" cy="1523880"/>
            <a:chOff x="762120" y="762120"/>
            <a:chExt cx="5562360" cy="1523880"/>
          </a:xfrm>
        </p:grpSpPr>
        <p:sp>
          <p:nvSpPr>
            <p:cNvPr id="193" name=""/>
            <p:cNvSpPr/>
            <p:nvPr/>
          </p:nvSpPr>
          <p:spPr>
            <a:xfrm>
              <a:off x="762120" y="762120"/>
              <a:ext cx="5562360" cy="1295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Η ΕΝΟΠΟΙΗΣΗ ΤΩΝ ΑΣΘΕΝΩΝ ΚΑ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ΗΛΕΚΤΡΟΜΑΓΝΗΤΙΚΩ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ΑΛΛΗΛΕΠΙΔΡΑΣΕΩ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2057400"/>
              <a:ext cx="213336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lashow, Weinberg, Sa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038480" y="4724280"/>
            <a:ext cx="2562480" cy="2876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3520" y="685800"/>
            <a:ext cx="5943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ν προσθέσουμε και την Ισχυρή Αλληλ. 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η δική της ομάδα συμμετρίας: SU(3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828800"/>
            <a:ext cx="48769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ΘΙΕΡΩΜΕΝΟ ΠΡΟΤΥ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tandard Mod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xSU(2)xU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200400"/>
            <a:ext cx="59436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που περιγράφει με ΕΚΠΛΗΚΤΙΚ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κρίβεια, ΟΛΑ τα έως τωρα πειραμ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ποτελέσμα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181480"/>
            <a:ext cx="33526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εισάγουμε πολλέ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αθερές “με το χέρ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172200"/>
            <a:ext cx="3276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μας “λείπει” το h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7960" y="4627440"/>
            <a:ext cx="13510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cc"/>
                </a:solidFill>
                <a:latin typeface="Times New Roman"/>
              </a:rPr>
              <a:t>ΑΛΛ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7772400"/>
            <a:ext cx="5638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Θέλουμε να μικρύνουμε τον αριθμό 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λεύθερων παραμέτρ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78168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9:04:42Z</dcterms:created>
  <dc:creator>n.d. tracas</dc:creator>
  <dc:description/>
  <dc:language>en-US</dc:language>
  <cp:lastModifiedBy>NDT</cp:lastModifiedBy>
  <dcterms:modified xsi:type="dcterms:W3CDTF">2003-03-14T15:15:13Z</dcterms:modified>
  <cp:revision>87</cp:revision>
  <dc:subject/>
  <dc:title>No Slide Title</dc:title>
</cp:coreProperties>
</file>