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CC6-DE0A-4DBC-AC5C-A4D6B257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819-49A9-49CE-BF71-EC288A5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35F-D992-41B6-92C6-863A580B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523-1E49-4ADE-9850-0DE20B3C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B82-0035-40DD-B22C-FEAD4776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F39-0467-4E03-A558-B28272E9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2E5-33FA-4219-9D3E-7DD5069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94A-BC4D-45FB-8593-F24A80CC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BCF-0FDB-451E-9D97-88C1547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F5A-214A-420E-B57A-9ACCF816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3F6-C80F-4A94-88FB-F282B480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AF8-57DB-442C-A72B-FD8B6CC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1DD-78FF-4698-847C-72ACB142A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25400" y="380880"/>
            <a:ext cx="332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ΕΩΡΙΕΣ ΒΑΘΜΙ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AUGE THE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1640" y="1336680"/>
            <a:ext cx="57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εξισώσεις κίνηση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grangian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να είν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αλλοίωτες σε μετασχηματισμό της μορφ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139840" y="2133720"/>
          <a:ext cx="197496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2133720"/>
                    <a:ext cx="1974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219320" y="2819520"/>
          <a:ext cx="4267080" cy="78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19520"/>
                    <a:ext cx="42670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09480" y="3962520"/>
          <a:ext cx="189864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962520"/>
                    <a:ext cx="18986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480" y="4457880"/>
          <a:ext cx="40388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4457880"/>
                    <a:ext cx="4038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58720" y="5105520"/>
          <a:ext cx="3632400" cy="163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5105520"/>
                    <a:ext cx="36324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20560" y="69753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λλά, α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057400" y="7010280"/>
          <a:ext cx="1371600" cy="42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7010280"/>
                    <a:ext cx="1371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09480" y="7543800"/>
          <a:ext cx="1473480" cy="366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7543800"/>
                    <a:ext cx="14734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3520" y="7981920"/>
          <a:ext cx="3270240" cy="78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7981920"/>
                    <a:ext cx="3270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50120" y="44197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Αναλλοίωτ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8040" y="800100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ΔΕΝ παραμένε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ναλλοίωτ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6040" y="270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ν κάνουμε την αντικατάστασ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08200" y="762120"/>
          <a:ext cx="2787480" cy="11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762120"/>
                    <a:ext cx="27874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18760" y="20988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ότε η ποσότη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2514600"/>
          <a:ext cx="426744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514600"/>
                    <a:ext cx="4267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20560" y="36226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αραμένει αναλλοίωτη α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4106880"/>
          <a:ext cx="218448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06880"/>
                    <a:ext cx="21844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00400" y="4038480"/>
          <a:ext cx="251460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4038480"/>
                    <a:ext cx="25146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95440" y="4842000"/>
            <a:ext cx="54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πεδίο                αποτελεί το διαδότη 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λληλεπίδρασης με σταθερά ζεύξης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05120" y="4876920"/>
          <a:ext cx="990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876920"/>
                    <a:ext cx="990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4:30:04Z</dcterms:created>
  <dc:creator>NDT</dc:creator>
  <dc:description/>
  <dc:language>en-US</dc:language>
  <cp:lastModifiedBy>NDT</cp:lastModifiedBy>
  <dcterms:modified xsi:type="dcterms:W3CDTF">2003-03-14T15:09:02Z</dcterms:modified>
  <cp:revision>1</cp:revision>
  <dc:subject/>
  <dc:title>No Slide Title</dc:title>
</cp:coreProperties>
</file>