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E0EA-DD6C-44EA-A977-B2A5F4F1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69C-5E8B-4ECA-A3E3-6FB4F257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842C-BEA0-4069-8157-D3FD3A76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6E1-30BA-4B01-9A3F-54C8BF05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4F7-A566-4784-9BD7-AA9AA434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FD2-EACF-4BF6-87DE-D8CE0082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5C0-F61F-45D4-BC16-3EFD824A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816-0A66-47AC-A450-70E3AB81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1DE-FE22-4EA0-9C6B-E2E253CE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AEF-A879-4ACD-8604-2149B9C8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69E-2C68-40FA-95F3-62A83BA7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F5C-1B15-4E04-AE5F-79C46D73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8C7F-638E-4309-9355-77C7B1276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8120" y="304920"/>
          <a:ext cx="18288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04920"/>
                    <a:ext cx="18288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8000" y="304920"/>
            <a:ext cx="210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ΟΜΑΔ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120" y="11430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60880" y="11430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8200" y="11430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διαστασε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437920" y="91440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914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9144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905120" y="1600200"/>
          <a:ext cx="838080" cy="3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600200"/>
                    <a:ext cx="838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352680" y="1571760"/>
          <a:ext cx="83844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1571760"/>
                    <a:ext cx="8384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762120" y="2057400"/>
          <a:ext cx="1752480" cy="120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057400"/>
                    <a:ext cx="175248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003480" y="2362320"/>
          <a:ext cx="44784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03480" y="2362320"/>
                    <a:ext cx="447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463200" y="23623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μιγαδικο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3560" y="3200400"/>
            <a:ext cx="42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8 (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2) ανεξάρτητοι παράμετρο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365640" y="3768840"/>
          <a:ext cx="368280" cy="29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65640" y="3768840"/>
                    <a:ext cx="368280" cy="2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796920" y="35812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σχέ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257800" y="3616200"/>
          <a:ext cx="838080" cy="317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3616200"/>
                    <a:ext cx="838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413160" y="358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352680" y="4160880"/>
          <a:ext cx="368280" cy="29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52680" y="4160880"/>
                    <a:ext cx="36828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871800" y="39625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σχέ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257800" y="4073400"/>
          <a:ext cx="838080" cy="31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57800" y="4073400"/>
                    <a:ext cx="838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62120" y="46069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60080" y="4419720"/>
            <a:ext cx="496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ανεξάρτητοι παράμετροι, δη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πίνακες αναπαράγουν όλη την ομάδ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9280" y="5724360"/>
            <a:ext cx="19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πίνακες τ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5800680"/>
          <a:ext cx="3886200" cy="695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7200" y="5800680"/>
                    <a:ext cx="38862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514600" y="6527880"/>
          <a:ext cx="1447920" cy="863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514600" y="6527880"/>
                    <a:ext cx="14479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37120" y="5257800"/>
            <a:ext cx="58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 ΟΜΑΔ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(2) EΧΕI 3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ΓΕΝΝΗΤΟΡΕ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74674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6480" y="7772400"/>
            <a:ext cx="58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 ΟΜΑΔ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(3) EΧΕI 8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ΓΕΝΝΗΤΟΡΕ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3:38:21Z</dcterms:created>
  <dc:creator>NDT</dc:creator>
  <dc:description/>
  <dc:language>en-US</dc:language>
  <cp:lastModifiedBy>NDT</cp:lastModifiedBy>
  <dcterms:modified xsi:type="dcterms:W3CDTF">2003-03-14T14:07:45Z</dcterms:modified>
  <cp:revision>1</cp:revision>
  <dc:subject/>
  <dc:title>No Slide Title</dc:title>
</cp:coreProperties>
</file>