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69C-DCF3-4E11-91FC-06B823A0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537-B486-4F69-9CB8-0C2DBD0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98C-FA2F-424A-B309-72EC2179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47C-4677-4026-B0CB-C0F10AE1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A81-82A8-4AB9-9B9C-1EAF40F5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C36-92CF-42A0-992C-2DBC699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6A4-FE95-487E-94DB-60B2F0A7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B32-E04E-41E0-8C13-EDEBB49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20A-DC75-406B-B47F-36DC3F4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38F-2495-4893-A4C3-F26A5902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96E-233F-4DF1-A295-FB9F050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425-5B5D-4A65-807C-1149B57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3854-030B-4396-9E6C-B22E70B73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lpart01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3" name="elpart02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117320" y="213372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6" name="elpart03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101480" y="219240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838080"/>
            <a:ext cx="7772400" cy="5270760"/>
            <a:chOff x="838080" y="838080"/>
            <a:chExt cx="7772400" cy="5270760"/>
          </a:xfrm>
        </p:grpSpPr>
        <p:pic>
          <p:nvPicPr>
            <p:cNvPr id="49" name="elpart1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4041000" y="1963800"/>
              <a:ext cx="3982680" cy="416160"/>
              <a:chOff x="4041000" y="1963800"/>
              <a:chExt cx="3982680" cy="416160"/>
            </a:xfrm>
          </p:grpSpPr>
          <p:sp>
            <p:nvSpPr>
              <p:cNvPr id="51" name=""/>
              <p:cNvSpPr/>
              <p:nvPr/>
            </p:nvSpPr>
            <p:spPr>
              <a:xfrm>
                <a:off x="4041000" y="2133720"/>
                <a:ext cx="101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000" spc="-1" strike="noStrike">
                    <a:solidFill>
                      <a:srgbClr val="ffcc00"/>
                    </a:solidFill>
                    <a:latin typeface="Arial"/>
                  </a:rPr>
                  <a:t>ΗΛΕΚΤΡΟΝΙΟ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1880" y="1963800"/>
                <a:ext cx="72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cc00"/>
                    </a:solidFill>
                    <a:latin typeface="Arial"/>
                  </a:rPr>
                  <a:t>ΚΟΥΑΡΚ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lpart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lpart3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part4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lpart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45:25Z</dcterms:created>
  <dc:creator>n.d. tracas</dc:creator>
  <dc:description/>
  <dc:language>en-US</dc:language>
  <cp:lastModifiedBy>n.d. tracas</cp:lastModifiedBy>
  <dcterms:modified xsi:type="dcterms:W3CDTF">1999-12-05T21:16:54Z</dcterms:modified>
  <cp:revision>4</cp:revision>
  <dc:subject/>
  <dc:title>No Slide Title</dc:title>
</cp:coreProperties>
</file>