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DBC-DFF3-422F-BDB9-169E117E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044-DE51-4DB6-90E4-DBFFBAC9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967-A582-4F64-AADB-A85AD244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B19-4099-4B72-B8E7-FB30AFDB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2FB-5B8D-418B-A48A-D2D50F4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488-4B02-4762-9374-FF8033ED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7E6-1F89-401E-B9DF-A472E19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379-469C-4ECC-9EAD-B7AD70F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95B-A630-49C7-897E-C7DB113C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925-851D-4454-A156-BD38DBA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4F6-E7C1-44B0-915D-22B927D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013-6E51-4117-A70E-2DFBF64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44B-50C7-49FC-8DE1-4661748D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egamma.swf" TargetMode="External"/><Relationship Id="rId2" Type="http://schemas.openxmlformats.org/officeDocument/2006/relationships/hyperlink" Target="file:///qcd1.sw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er1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nter2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nter3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nter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9040" y="83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ΑΝΤΑΛΛΑΓΗ ΦΩΤΟΝΙ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ΑΝΤΑΛΛΑΓΗ ΓΚΛΟΥΟΝΙ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52:13Z</dcterms:created>
  <dc:creator>n.d. tracas</dc:creator>
  <dc:description/>
  <dc:language>en-US</dc:language>
  <cp:lastModifiedBy>NDT</cp:lastModifiedBy>
  <dcterms:modified xsi:type="dcterms:W3CDTF">2003-02-25T14:26:35Z</dcterms:modified>
  <cp:revision>7</cp:revision>
  <dc:subject/>
  <dc:title>No Slide Title</dc:title>
</cp:coreProperties>
</file>