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3F2-F3C1-4FA5-BC54-A65B9DA0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B67-1ADD-4107-99D8-C1B6C1B6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C2B-1AAA-49FD-B9C2-AE00B5AE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AEA-02AA-4FD6-B0C7-360E0BDC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ABC-8B7F-4D1F-BBB7-EECEF368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009-F839-492D-861E-41CCF4B3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F8E-C4DE-497B-9E85-0D5CB8C1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F50-6989-4C4C-B1D1-A28F53C9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9DD-C92F-40FF-84D7-A3047527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858-CC69-420B-97BB-8C51AC56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FEA-022E-481A-819D-8D3C39C6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FCC-BF4A-42EB-9DAA-187743F9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6802-041E-479A-96C4-C27398918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2538360"/>
            <a:ext cx="2504880" cy="2871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0400" y="1395360"/>
            <a:ext cx="152280" cy="1066680"/>
          </a:xfrm>
          <a:prstGeom prst="downArrow">
            <a:avLst>
              <a:gd name="adj1" fmla="val 50000"/>
              <a:gd name="adj2" fmla="val 175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8160" y="200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4680" y="609480"/>
            <a:ext cx="49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ΠΑΡΑΒΙΑΣΗ ΤΗΣ ΣΥΜΜΕΤΡΙ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791320"/>
            <a:ext cx="4876920" cy="2514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ι εξισώσεις έχουν κυλινδρικ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μμετρία. Όταν όμως η δύνα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ξεπεράσει μια κρίσιμη τιμή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λύση των εξισώσεων, δηλαδ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ο σχήμα που παίρνει η ράβδ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εν έχει πλέον αυτή τη συμμετρί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3:30:51Z</dcterms:created>
  <dc:creator>NDT</dc:creator>
  <dc:description/>
  <dc:language>en-US</dc:language>
  <cp:lastModifiedBy>NDT</cp:lastModifiedBy>
  <dcterms:modified xsi:type="dcterms:W3CDTF">2003-02-25T13:38:35Z</dcterms:modified>
  <cp:revision>3</cp:revision>
  <dc:subject/>
  <dc:title>No Slide Title</dc:title>
</cp:coreProperties>
</file>