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FD3-EE62-47D9-843E-22F615C0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54A-6B59-4B6F-91E9-22D8C8B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E06-2525-4922-8206-F2F7012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C15-A329-4879-A847-CAF8FB65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8B3-7DEE-4103-A726-50D19F8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F03-41D6-460F-AB5B-D1ED8F6B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3EC-E011-4DAB-936F-0CBB03C2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9B2-ABFB-4347-BE22-F6743004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C14-475E-4511-AAC5-9C1E6D9E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958-D2AD-45FF-928A-DF988FE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50F-2C79-40A7-AA44-9058C884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BD-BF35-4BFA-B9DD-53F2453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8DE-F4F4-4080-877B-90C14A072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lpart0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3" name="elpart02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117320" y="213372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6" name="elpart03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101480" y="219240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838080"/>
            <a:ext cx="7772400" cy="5270760"/>
            <a:chOff x="838080" y="838080"/>
            <a:chExt cx="7772400" cy="5270760"/>
          </a:xfrm>
        </p:grpSpPr>
        <p:pic>
          <p:nvPicPr>
            <p:cNvPr id="49" name="elpart1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4041000" y="1963800"/>
              <a:ext cx="3982680" cy="416160"/>
              <a:chOff x="4041000" y="1963800"/>
              <a:chExt cx="3982680" cy="416160"/>
            </a:xfrm>
          </p:grpSpPr>
          <p:sp>
            <p:nvSpPr>
              <p:cNvPr id="51" name=""/>
              <p:cNvSpPr/>
              <p:nvPr/>
            </p:nvSpPr>
            <p:spPr>
              <a:xfrm>
                <a:off x="4041000" y="2133720"/>
                <a:ext cx="101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000" spc="-1" strike="noStrike">
                    <a:solidFill>
                      <a:srgbClr val="ffcc00"/>
                    </a:solidFill>
                    <a:latin typeface="Arial"/>
                  </a:rPr>
                  <a:t>ΗΛΕΚΤΡΟΝΙΟ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1880" y="1963800"/>
                <a:ext cx="72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cc00"/>
                    </a:solidFill>
                    <a:latin typeface="Arial"/>
                  </a:rPr>
                  <a:t>ΚΟΥΑΡΚ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lpart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part3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part4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lpart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45:25Z</dcterms:created>
  <dc:creator>n.d. tracas</dc:creator>
  <dc:description/>
  <dc:language>en-US</dc:language>
  <cp:lastModifiedBy>n.d. tracas</cp:lastModifiedBy>
  <dcterms:modified xsi:type="dcterms:W3CDTF">1999-12-05T21:16:54Z</dcterms:modified>
  <cp:revision>4</cp:revision>
  <dc:subject/>
  <dc:title>No Slide Title</dc:title>
</cp:coreProperties>
</file>