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6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3.wmf" ContentType="image/x-wmf"/>
  <Override PartName="/ppt/media/image1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26.jpeg" ContentType="image/jpeg"/>
  <Override PartName="/ppt/media/image4.wmf" ContentType="image/x-wmf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0" y="6448320"/>
            <a:ext cx="178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Φεβρουάριος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353360" y="6467400"/>
            <a:ext cx="17524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9120" y="131760"/>
            <a:ext cx="3504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Ελληνική Ομάδα Εκλαΐκευσ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uropean Particle Physics Outreach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ttp://www.physics.ntua.gr/POPPH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3040" y="149400"/>
            <a:ext cx="34578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200" y="642312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Νίκος Τράκα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160" y="6480000"/>
            <a:ext cx="14097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7.jpeg"/><Relationship Id="rId4" Type="http://schemas.openxmlformats.org/officeDocument/2006/relationships/slide" Target=""/><Relationship Id="rId5" Type="http://schemas.openxmlformats.org/officeDocument/2006/relationships/image" Target="../media/image8.jpeg"/><Relationship Id="rId6" Type="http://schemas.openxmlformats.org/officeDocument/2006/relationships/slide" Target=""/><Relationship Id="rId7" Type="http://schemas.openxmlformats.org/officeDocument/2006/relationships/image" Target="../media/image9.jpeg"/><Relationship Id="rId8" Type="http://schemas.openxmlformats.org/officeDocument/2006/relationships/slide" Target=""/><Relationship Id="rId9" Type="http://schemas.openxmlformats.org/officeDocument/2006/relationships/image" Target="../media/image10.jpeg"/><Relationship Id="rId10" Type="http://schemas.openxmlformats.org/officeDocument/2006/relationships/slide" Target=""/><Relationship Id="rId11" Type="http://schemas.openxmlformats.org/officeDocument/2006/relationships/image" Target="../media/image11.jpeg"/><Relationship Id="rId12" Type="http://schemas.openxmlformats.org/officeDocument/2006/relationships/slide" Target="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image" Target="../media/image14.jpeg"/><Relationship Id="rId5" Type="http://schemas.openxmlformats.org/officeDocument/2006/relationships/slide" Target=""/><Relationship Id="rId6" Type="http://schemas.openxmlformats.org/officeDocument/2006/relationships/image" Target="../media/image15.jpeg"/><Relationship Id="rId7" Type="http://schemas.openxmlformats.org/officeDocument/2006/relationships/slide" Target=""/><Relationship Id="rId8" Type="http://schemas.openxmlformats.org/officeDocument/2006/relationships/image" Target="../media/image16.jpeg"/><Relationship Id="rId9" Type="http://schemas.openxmlformats.org/officeDocument/2006/relationships/slide" Target=""/><Relationship Id="rId10" Type="http://schemas.openxmlformats.org/officeDocument/2006/relationships/image" Target="../media/image17.jpeg"/><Relationship Id="rId11" Type="http://schemas.openxmlformats.org/officeDocument/2006/relationships/slide" Target=""/><Relationship Id="rId12" Type="http://schemas.openxmlformats.org/officeDocument/2006/relationships/image" Target="../media/image18.jpeg"/><Relationship Id="rId13" Type="http://schemas.openxmlformats.org/officeDocument/2006/relationships/slide" Target="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7.png"/><Relationship Id="rId4" Type="http://schemas.openxmlformats.org/officeDocument/2006/relationships/slide" Target="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" Target="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" Target="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" Target=""/><Relationship Id="rId10" Type="http://schemas.openxmlformats.org/officeDocument/2006/relationships/image" Target="../media/image27.pn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png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27.png"/><Relationship Id="rId7" Type="http://schemas.openxmlformats.org/officeDocument/2006/relationships/image" Target="../media/image26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26.jpe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0.jpeg"/><Relationship Id="rId6" Type="http://schemas.openxmlformats.org/officeDocument/2006/relationships/slide" Target=""/><Relationship Id="rId7" Type="http://schemas.openxmlformats.org/officeDocument/2006/relationships/image" Target="../media/image9.jpeg"/><Relationship Id="rId8" Type="http://schemas.openxmlformats.org/officeDocument/2006/relationships/slide" Target=""/><Relationship Id="rId9" Type="http://schemas.openxmlformats.org/officeDocument/2006/relationships/image" Target="../media/image9.jpeg"/><Relationship Id="rId10" Type="http://schemas.openxmlformats.org/officeDocument/2006/relationships/slide" Target=""/><Relationship Id="rId11" Type="http://schemas.openxmlformats.org/officeDocument/2006/relationships/image" Target="../media/image11.jpeg"/><Relationship Id="rId12" Type="http://schemas.openxmlformats.org/officeDocument/2006/relationships/slide" Target=""/><Relationship Id="rId13" Type="http://schemas.openxmlformats.org/officeDocument/2006/relationships/image" Target="../media/image12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10.jpeg"/><Relationship Id="rId8" Type="http://schemas.openxmlformats.org/officeDocument/2006/relationships/slide" Target=""/><Relationship Id="rId9" Type="http://schemas.openxmlformats.org/officeDocument/2006/relationships/image" Target="../media/image9.jpeg"/><Relationship Id="rId10" Type="http://schemas.openxmlformats.org/officeDocument/2006/relationships/slide" Target=""/><Relationship Id="rId11" Type="http://schemas.openxmlformats.org/officeDocument/2006/relationships/image" Target="../media/image11.jpeg"/><Relationship Id="rId12" Type="http://schemas.openxmlformats.org/officeDocument/2006/relationships/slide" Target=""/><Relationship Id="rId13" Type="http://schemas.openxmlformats.org/officeDocument/2006/relationships/image" Target="../media/image12.jpe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7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10.jpeg"/><Relationship Id="rId7" Type="http://schemas.openxmlformats.org/officeDocument/2006/relationships/slide" Target=""/><Relationship Id="rId8" Type="http://schemas.openxmlformats.org/officeDocument/2006/relationships/image" Target="../media/image9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" Target=""/><Relationship Id="rId6" Type="http://schemas.openxmlformats.org/officeDocument/2006/relationships/image" Target="../media/image10.jpeg"/><Relationship Id="rId7" Type="http://schemas.openxmlformats.org/officeDocument/2006/relationships/image" Target="../media/image9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0.jpeg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10.jpeg"/><Relationship Id="rId8" Type="http://schemas.openxmlformats.org/officeDocument/2006/relationships/image" Target="../media/image9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10.jpeg"/><Relationship Id="rId8" Type="http://schemas.openxmlformats.org/officeDocument/2006/relationships/image" Target="../media/image9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15.jpeg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" Target="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14.jpeg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" Target="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" Target=""/><Relationship Id="rId11" Type="http://schemas.openxmlformats.org/officeDocument/2006/relationships/image" Target="../media/image18.jpeg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" Target="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hyperlink" Target="file:///elpart.ppt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" Target="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" Target="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inter.ppt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8200" y="2071800"/>
            <a:ext cx="8137440" cy="9169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5400" spc="-1" strike="noStrike">
                <a:solidFill>
                  <a:srgbClr val="ff0000"/>
                </a:solidFill>
                <a:latin typeface="Times New Roman"/>
              </a:rPr>
              <a:t>...από τι είμαστε φτιαγμένο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22240" y="4441680"/>
            <a:ext cx="415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ίκος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Τράκας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Σχολή Εφαρμοσμένων Μαθηματ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και Φυσικών Επιστημών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ΕΜ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33880" y="2984400"/>
            <a:ext cx="4652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0000"/>
                </a:solidFill>
                <a:latin typeface="Times New Roman"/>
              </a:rPr>
              <a:t>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0000"/>
                </a:solidFill>
                <a:latin typeface="Times New Roman"/>
              </a:rPr>
              <a:t>Σύγχρονες Θεωρίες και Πειρά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0000"/>
                </a:solidFill>
                <a:latin typeface="Times New Roman"/>
              </a:rPr>
              <a:t>Φυσικής Στοιχειωδών Σωματιδί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5760" y="2792520"/>
            <a:ext cx="311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επιταχυντέ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962520" y="990720"/>
            <a:ext cx="2514600" cy="761760"/>
            <a:chOff x="3962520" y="990720"/>
            <a:chExt cx="2514600" cy="761760"/>
          </a:xfrm>
        </p:grpSpPr>
        <p:sp>
          <p:nvSpPr>
            <p:cNvPr id="84" name=""/>
            <p:cNvSpPr/>
            <p:nvPr/>
          </p:nvSpPr>
          <p:spPr>
            <a:xfrm>
              <a:off x="3962520" y="990720"/>
              <a:ext cx="251460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  <a:effectLst>
              <a:outerShdw dist="36147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5880" y="1011240"/>
              <a:ext cx="21787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γραμμικο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962520" y="2306520"/>
            <a:ext cx="3733560" cy="1274760"/>
            <a:chOff x="3962520" y="2306520"/>
            <a:chExt cx="3733560" cy="1274760"/>
          </a:xfrm>
        </p:grpSpPr>
        <p:sp>
          <p:nvSpPr>
            <p:cNvPr id="87" name=""/>
            <p:cNvSpPr/>
            <p:nvPr/>
          </p:nvSpPr>
          <p:spPr>
            <a:xfrm>
              <a:off x="3962520" y="2362320"/>
              <a:ext cx="3733560" cy="1218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  <a:effectLst>
              <a:outerShdw dist="36147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16240" y="2306520"/>
              <a:ext cx="35197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κυκλικο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σταθερού στόχο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962520" y="4038480"/>
            <a:ext cx="3733560" cy="1828800"/>
            <a:chOff x="3962520" y="4038480"/>
            <a:chExt cx="3733560" cy="1828800"/>
          </a:xfrm>
        </p:grpSpPr>
        <p:sp>
          <p:nvSpPr>
            <p:cNvPr id="90" name=""/>
            <p:cNvSpPr/>
            <p:nvPr/>
          </p:nvSpPr>
          <p:spPr>
            <a:xfrm>
              <a:off x="3962520" y="4038480"/>
              <a:ext cx="3733560" cy="1828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  <a:effectLst>
              <a:outerShdw dist="40186" dir="118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92560" y="4059360"/>
              <a:ext cx="327168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κυκλικο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συγκρου</a:t>
              </a:r>
              <a:r>
                <a:rPr b="1" lang="el-GR" sz="3600" spc="-1" strike="noStrike">
                  <a:solidFill>
                    <a:srgbClr val="ff0000"/>
                  </a:solidFill>
                  <a:latin typeface="Times New Roman"/>
                </a:rPr>
                <a:t>ό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μ</a:t>
              </a:r>
              <a:r>
                <a:rPr b="1" lang="el-GR" sz="3600" spc="-1" strike="noStrike">
                  <a:solidFill>
                    <a:srgbClr val="ff0000"/>
                  </a:solidFill>
                  <a:latin typeface="Times New Roman"/>
                </a:rPr>
                <a:t>ε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νω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δεσμώ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 flipV="1">
            <a:off x="3048120" y="1523520"/>
            <a:ext cx="838080" cy="12193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3505320"/>
            <a:ext cx="990720" cy="13716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3200400"/>
            <a:ext cx="6094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53280" y="27432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2819520"/>
            <a:ext cx="3808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53280" y="47242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1295280"/>
            <a:ext cx="99072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229600" y="2895120"/>
            <a:ext cx="1440" cy="381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8229600" y="4876920"/>
            <a:ext cx="1440" cy="380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458200" y="4876920"/>
            <a:ext cx="1440" cy="380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76880" y="393840"/>
            <a:ext cx="2664000" cy="3386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00360" y="1371600"/>
            <a:ext cx="2171880" cy="173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39120" y="4289400"/>
            <a:ext cx="125712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24600" y="241200"/>
            <a:ext cx="2905200" cy="366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0520" y="3643200"/>
            <a:ext cx="3065400" cy="2106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27560" y="34034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35320" y="4237200"/>
            <a:ext cx="2801880" cy="1900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8280" y="1231920"/>
            <a:ext cx="2724120" cy="1816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1600" y="1077840"/>
            <a:ext cx="2951280" cy="20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07160" y="4338720"/>
            <a:ext cx="1155960" cy="1724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638520" y="144144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99960" y="3746520"/>
            <a:ext cx="2917800" cy="1955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248000" y="4343400"/>
            <a:ext cx="26100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067640" y="3289320"/>
            <a:ext cx="283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...ανιχνευτέ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9520" y="1101600"/>
            <a:ext cx="2209680" cy="1532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156360" y="216000"/>
            <a:ext cx="2530440" cy="1649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8160" y="250920"/>
            <a:ext cx="1562400" cy="2398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112160" y="2336760"/>
            <a:ext cx="153648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298600" y="2784600"/>
            <a:ext cx="1511280" cy="2274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06280" y="3657600"/>
            <a:ext cx="1638360" cy="21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330800" y="4540320"/>
            <a:ext cx="2465280" cy="1650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7480" y="3529080"/>
            <a:ext cx="1833480" cy="238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82680" y="2678040"/>
            <a:ext cx="1706760" cy="2436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02280" y="4395960"/>
            <a:ext cx="2646360" cy="1839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58080" y="2208240"/>
            <a:ext cx="1795320" cy="2487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24440" y="125280"/>
            <a:ext cx="1807920" cy="260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1080" y="87480"/>
            <a:ext cx="2709720" cy="1839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4120" y="1801800"/>
            <a:ext cx="380484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...πώς δουλεύου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οι ανιχνευτές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95880" y="1317600"/>
            <a:ext cx="2460600" cy="1824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3110040" cy="1943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038480" y="3443400"/>
            <a:ext cx="1952640" cy="2119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6324480" y="3314880"/>
            <a:ext cx="2248200" cy="2247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4267080" y="1143000"/>
            <a:ext cx="1386000" cy="1905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48320" y="1752480"/>
            <a:ext cx="457200" cy="101880"/>
          </a:xfrm>
          <a:custGeom>
            <a:avLst/>
            <a:gdLst/>
            <a:ahLst/>
            <a:rect l="l" t="t" r="r" b="b"/>
            <a:pathLst>
              <a:path w="552" h="528">
                <a:moveTo>
                  <a:pt x="0" y="528"/>
                </a:moveTo>
                <a:cubicBezTo>
                  <a:pt x="204" y="452"/>
                  <a:pt x="408" y="376"/>
                  <a:pt x="480" y="288"/>
                </a:cubicBezTo>
                <a:cubicBezTo>
                  <a:pt x="552" y="200"/>
                  <a:pt x="440" y="8"/>
                  <a:pt x="4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648320" y="1675800"/>
            <a:ext cx="457200" cy="74520"/>
          </a:xfrm>
          <a:custGeom>
            <a:avLst/>
            <a:gdLst/>
            <a:ahLst/>
            <a:rect l="l" t="t" r="r" b="b"/>
            <a:pathLst>
              <a:path w="624" h="152">
                <a:moveTo>
                  <a:pt x="0" y="104"/>
                </a:moveTo>
                <a:cubicBezTo>
                  <a:pt x="188" y="52"/>
                  <a:pt x="376" y="0"/>
                  <a:pt x="480" y="8"/>
                </a:cubicBezTo>
                <a:cubicBezTo>
                  <a:pt x="584" y="16"/>
                  <a:pt x="604" y="84"/>
                  <a:pt x="624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1752480"/>
            <a:ext cx="457200" cy="763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80"/>
                </a:moveTo>
                <a:cubicBezTo>
                  <a:pt x="164" y="40"/>
                  <a:pt x="328" y="0"/>
                  <a:pt x="432" y="32"/>
                </a:cubicBezTo>
                <a:cubicBezTo>
                  <a:pt x="536" y="64"/>
                  <a:pt x="580" y="168"/>
                  <a:pt x="624" y="2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4356000" y="5734080"/>
            <a:ext cx="122400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H="1" flipV="1">
            <a:off x="5435640" y="4365360"/>
            <a:ext cx="288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435640" y="486900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419640" y="4869000"/>
            <a:ext cx="2232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419640" y="4436640"/>
            <a:ext cx="2232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3120" y="838080"/>
            <a:ext cx="5805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Εφαρμογές της έρευνα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6840" y="1981080"/>
            <a:ext cx="152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ιατρικ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154320"/>
            <a:ext cx="177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μαγνήτε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0560" y="5586480"/>
            <a:ext cx="1401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057400" y="2274840"/>
            <a:ext cx="31428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381400"/>
            <a:ext cx="31428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2381400"/>
            <a:ext cx="2362320" cy="73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057400" y="2274840"/>
            <a:ext cx="236232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71680" y="2274840"/>
            <a:ext cx="20480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451240" y="2792520"/>
            <a:ext cx="787320" cy="263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39720" y="2362320"/>
            <a:ext cx="8118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0000"/>
                </a:solidFill>
                <a:latin typeface="Times New Roman"/>
              </a:rPr>
              <a:t>ακτινογραφίε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1981080" y="2286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23640" y="4508640"/>
            <a:ext cx="2381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imes New Roman"/>
              </a:rPr>
              <a:t>ηλεκτρονικ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3459240"/>
            <a:ext cx="31428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3535200"/>
            <a:ext cx="2362320" cy="65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38280" y="3352680"/>
            <a:ext cx="2362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38280" y="3398760"/>
            <a:ext cx="30492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236232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2560" y="3352680"/>
            <a:ext cx="20480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5" action="ppaction://hlinksldjump"/>
          </p:cNvPr>
          <p:cNvSpPr/>
          <p:nvPr/>
        </p:nvSpPr>
        <p:spPr>
          <a:xfrm flipV="1">
            <a:off x="5643720" y="47592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387600" y="4390200"/>
            <a:ext cx="20480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057400" y="5268960"/>
            <a:ext cx="31428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057400" y="525096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5983200"/>
            <a:ext cx="190512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5983200"/>
            <a:ext cx="30492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6" action="ppaction://hlinksldjump"/>
          </p:cNvPr>
          <p:cNvSpPr/>
          <p:nvPr/>
        </p:nvSpPr>
        <p:spPr>
          <a:xfrm flipV="1">
            <a:off x="1981080" y="586044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371680" y="5250600"/>
            <a:ext cx="15908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514600"/>
            <a:ext cx="1067040" cy="215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0000"/>
                </a:solidFill>
                <a:latin typeface="Times New Roman"/>
              </a:rPr>
              <a:t>τομογραφία</a:t>
            </a: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 (P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3962520" y="2438280"/>
            <a:ext cx="29520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2819520" y="3809880"/>
            <a:ext cx="457200" cy="338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2514600" y="5632560"/>
            <a:ext cx="380880" cy="312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3276720" y="5327640"/>
            <a:ext cx="609480" cy="428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895120" y="3429000"/>
            <a:ext cx="7887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υπεραγώγιμο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μαγνήτε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2120" y="3809880"/>
            <a:ext cx="924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ηλεκτρικό ρεύμ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10 000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3429000"/>
            <a:ext cx="7538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0000"/>
                </a:solidFill>
                <a:latin typeface="Times New Roman"/>
              </a:rPr>
              <a:t>θ</a:t>
            </a: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ερμοκρασί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υγρού </a:t>
            </a: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05160" y="273384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73964" dir="18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επιταχυντές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θεραπεία καρκίνο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4826160" y="4467240"/>
            <a:ext cx="452160" cy="295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4978440" y="4848120"/>
            <a:ext cx="293760" cy="365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3606840" y="4467240"/>
            <a:ext cx="198360" cy="304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217760" y="4467240"/>
            <a:ext cx="517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fast b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77520" y="4695840"/>
            <a:ext cx="10843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0000"/>
                </a:solidFill>
                <a:latin typeface="Times New Roman"/>
              </a:rPr>
              <a:t>έλεγχος επιταχυντώ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7360" y="4924440"/>
            <a:ext cx="10267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έλεγχος ανιχνευτώ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3840" y="5403960"/>
            <a:ext cx="941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Tim Berends-L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2520" y="5784840"/>
            <a:ext cx="9428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παγκόσμιος ιστό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14" action="ppaction://hlinksldjump"/>
          </p:cNvPr>
          <p:cNvSpPr/>
          <p:nvPr/>
        </p:nvSpPr>
        <p:spPr>
          <a:xfrm>
            <a:off x="5334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4299" y="10810"/>
                </a:moveTo>
                <a:lnTo>
                  <a:pt x="3794" y="17817"/>
                </a:lnTo>
                <a:lnTo>
                  <a:pt x="3794" y="3804"/>
                </a:lnTo>
                <a:close/>
              </a:path>
              <a:path fill="darken" w="21600" h="21620">
                <a:moveTo>
                  <a:pt x="16144" y="3804"/>
                </a:moveTo>
                <a:lnTo>
                  <a:pt x="16144" y="17817"/>
                </a:lnTo>
                <a:lnTo>
                  <a:pt x="17806" y="17817"/>
                </a:lnTo>
                <a:lnTo>
                  <a:pt x="17806" y="380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3154320"/>
            <a:ext cx="17748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μαγνήτε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3459240"/>
            <a:ext cx="31428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3535200"/>
            <a:ext cx="2362320" cy="65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3352680"/>
            <a:ext cx="2362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438280" y="3398760"/>
            <a:ext cx="30492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236232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52560" y="3352680"/>
            <a:ext cx="20480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819520" y="3809880"/>
            <a:ext cx="457200" cy="338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895120" y="3429000"/>
            <a:ext cx="788760" cy="337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υπεραγώγιμο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μαγνήτε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2120" y="3809880"/>
            <a:ext cx="924480" cy="337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ηλεκτρικό ρεύμ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10 000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3429000"/>
            <a:ext cx="753840" cy="337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0000"/>
                </a:solidFill>
                <a:latin typeface="Times New Roman"/>
              </a:rPr>
              <a:t>θ</a:t>
            </a: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ερμοκρασί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υγρού </a:t>
            </a: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0560" y="5586480"/>
            <a:ext cx="140148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057400" y="5268960"/>
            <a:ext cx="31428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057400" y="525096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983200"/>
            <a:ext cx="190512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983200"/>
            <a:ext cx="30492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 flipV="1">
            <a:off x="1981080" y="586044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371680" y="5250600"/>
            <a:ext cx="15908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2514600" y="5632560"/>
            <a:ext cx="380880" cy="3124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276720" y="5327640"/>
            <a:ext cx="609480" cy="4287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283840" y="5403960"/>
            <a:ext cx="941040" cy="21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Tim Berends-L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2520" y="5784840"/>
            <a:ext cx="942840" cy="21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παγκόσμιος ιστό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971800" y="4495320"/>
            <a:ext cx="2438280" cy="838440"/>
            <a:chOff x="2971800" y="4495320"/>
            <a:chExt cx="2438280" cy="838440"/>
          </a:xfrm>
        </p:grpSpPr>
        <p:sp>
          <p:nvSpPr>
            <p:cNvPr id="211" name=""/>
            <p:cNvSpPr/>
            <p:nvPr/>
          </p:nvSpPr>
          <p:spPr>
            <a:xfrm flipV="1">
              <a:off x="3048120" y="4512960"/>
              <a:ext cx="31428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048120" y="4495320"/>
              <a:ext cx="236196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48120" y="5227200"/>
              <a:ext cx="23619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8120" y="5181120"/>
              <a:ext cx="3045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>
              <a:hlinkClick r:id="rId7" action="ppaction://hlinksldjump"/>
            </p:cNvPr>
            <p:cNvSpPr/>
            <p:nvPr/>
          </p:nvSpPr>
          <p:spPr>
            <a:xfrm flipV="1">
              <a:off x="2971800" y="5104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362400" y="4494960"/>
              <a:ext cx="204768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03120" y="838080"/>
            <a:ext cx="580572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Εφαρμογές της έρευνα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6840" y="1981080"/>
            <a:ext cx="152352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ιατρικ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057400" y="1905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2362320"/>
            <a:ext cx="91440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2362320"/>
            <a:ext cx="685800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057400" y="1905120"/>
            <a:ext cx="6858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1905120"/>
            <a:ext cx="59436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3200400" y="4114800"/>
            <a:ext cx="2286000" cy="1125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127680" y="2257560"/>
            <a:ext cx="237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ακτινογραφίε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9440" y="4390920"/>
            <a:ext cx="30639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επιταχυντές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θεραπεία καρκίν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2286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37880" y="3095640"/>
            <a:ext cx="2999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τομογραφία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(P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7238880" y="2514600"/>
            <a:ext cx="1549440" cy="160020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rId10" action="ppaction://hlinksldjump"/>
          </p:cNvPr>
          <p:cNvSpPr/>
          <p:nvPr/>
        </p:nvSpPr>
        <p:spPr>
          <a:xfrm>
            <a:off x="8458200" y="52578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123360" y="4484520"/>
            <a:ext cx="2381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imes New Roman"/>
              </a:rPr>
              <a:t>ηλεκτρονικ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594400" y="4167360"/>
            <a:ext cx="31428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94400" y="4149360"/>
            <a:ext cx="2362320" cy="6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94400" y="4835520"/>
            <a:ext cx="2362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94400" y="48355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 flipV="1">
            <a:off x="5518080" y="47592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908680" y="4149720"/>
            <a:ext cx="20480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346880" y="4226040"/>
            <a:ext cx="452520" cy="295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499520" y="4606920"/>
            <a:ext cx="293400" cy="3650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6127920" y="4226040"/>
            <a:ext cx="198360" cy="30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738840" y="4226040"/>
            <a:ext cx="517680" cy="21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fast b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98600" y="4454640"/>
            <a:ext cx="1084320" cy="21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0000"/>
                </a:solidFill>
                <a:latin typeface="Times New Roman"/>
              </a:rPr>
              <a:t>έλεγχος επιταχυντώ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08440" y="4683240"/>
            <a:ext cx="1026720" cy="21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έλεγχος ανιχνευτώ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0560" y="5586480"/>
            <a:ext cx="1401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057400" y="5268960"/>
            <a:ext cx="31428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057400" y="525096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5983200"/>
            <a:ext cx="190512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57400" y="5983200"/>
            <a:ext cx="30492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6" action="ppaction://hlinksldjump"/>
          </p:cNvPr>
          <p:cNvSpPr/>
          <p:nvPr/>
        </p:nvSpPr>
        <p:spPr>
          <a:xfrm flipV="1">
            <a:off x="1981080" y="586044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371680" y="5250600"/>
            <a:ext cx="15908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2514600" y="5632560"/>
            <a:ext cx="380880" cy="312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3276720" y="5327640"/>
            <a:ext cx="609480" cy="4287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83840" y="5403960"/>
            <a:ext cx="941040" cy="21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Tim Berends-L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2520" y="5784840"/>
            <a:ext cx="942840" cy="21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παγκόσμιος ιστό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838080"/>
            <a:ext cx="5805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Εφαρμογές της έρευνα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6840" y="1981080"/>
            <a:ext cx="152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ιατρικ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3154320"/>
            <a:ext cx="177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μαγνήτε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7400" y="2274840"/>
            <a:ext cx="31428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2381400"/>
            <a:ext cx="31428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2381400"/>
            <a:ext cx="2362320" cy="73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057400" y="2274840"/>
            <a:ext cx="236232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71680" y="2274840"/>
            <a:ext cx="20480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9" action="ppaction://hlinksldjump"/>
          </p:cNvPr>
          <p:cNvSpPr/>
          <p:nvPr/>
        </p:nvSpPr>
        <p:spPr>
          <a:xfrm>
            <a:off x="1981080" y="2286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3549600"/>
            <a:ext cx="76212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38280" y="3549600"/>
            <a:ext cx="556272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438280" y="3428640"/>
            <a:ext cx="563904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438280" y="3428640"/>
            <a:ext cx="76212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3352680" y="4637160"/>
            <a:ext cx="1752840" cy="1297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2451240" y="2792520"/>
            <a:ext cx="787320" cy="2635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439720" y="2362320"/>
            <a:ext cx="811800" cy="21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0000"/>
                </a:solidFill>
                <a:latin typeface="Times New Roman"/>
              </a:rPr>
              <a:t>ακτινογραφίε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5080" y="3429000"/>
            <a:ext cx="487224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95480" y="2514600"/>
            <a:ext cx="1067040" cy="21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0000"/>
                </a:solidFill>
                <a:latin typeface="Times New Roman"/>
              </a:rPr>
              <a:t>τομογραφία</a:t>
            </a: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 (P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2"/>
          <a:stretch/>
        </p:blipFill>
        <p:spPr>
          <a:xfrm>
            <a:off x="3962520" y="2438280"/>
            <a:ext cx="295200" cy="304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3"/>
          <a:stretch/>
        </p:blipFill>
        <p:spPr>
          <a:xfrm>
            <a:off x="3505320" y="4789440"/>
            <a:ext cx="1752480" cy="129708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rId14" action="ppaction://hlinksldjump"/>
          </p:cNvPr>
          <p:cNvSpPr/>
          <p:nvPr/>
        </p:nvSpPr>
        <p:spPr>
          <a:xfrm>
            <a:off x="7620120" y="58672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7480" y="3657600"/>
            <a:ext cx="1992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υπεραγώγιμο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μαγνήτ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90360" y="4876920"/>
            <a:ext cx="2392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ηλεκτρικό ρεύ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10 000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9800" y="3581280"/>
            <a:ext cx="1890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θ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ερμοκρασ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υγρού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274320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επιταχυντές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θεραπεία καρκίνο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788000" y="2852640"/>
            <a:ext cx="936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716360" y="4869000"/>
            <a:ext cx="935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2924280"/>
            <a:ext cx="511308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84360" y="4869000"/>
            <a:ext cx="4967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3120" y="838080"/>
            <a:ext cx="5805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Εφαρμογές της έρευνα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6840" y="1981080"/>
            <a:ext cx="152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ιατρικ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3154320"/>
            <a:ext cx="17748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μαγνήτε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057400" y="2274840"/>
            <a:ext cx="31428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7400" y="2381400"/>
            <a:ext cx="31428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2381400"/>
            <a:ext cx="2362320" cy="73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057400" y="2274840"/>
            <a:ext cx="236232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71680" y="2274840"/>
            <a:ext cx="20480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235240" y="2811600"/>
            <a:ext cx="787320" cy="2635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439720" y="2362320"/>
            <a:ext cx="811800" cy="21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0000"/>
                </a:solidFill>
                <a:latin typeface="Times New Roman"/>
              </a:rPr>
              <a:t>ακτινογραφίε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1981080" y="2286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22640" y="3478320"/>
            <a:ext cx="31428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22640" y="3478320"/>
            <a:ext cx="2361960" cy="73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222640" y="3371760"/>
            <a:ext cx="236196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222640" y="3417840"/>
            <a:ext cx="30456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4" action="ppaction://hlinksldjump"/>
          </p:cNvPr>
          <p:cNvSpPr/>
          <p:nvPr/>
        </p:nvSpPr>
        <p:spPr>
          <a:xfrm>
            <a:off x="2146320" y="3448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36920" y="3371760"/>
            <a:ext cx="20476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33720" y="2438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rId5" action="ppaction://hlinksldjump"/>
          </p:cNvPr>
          <p:cNvSpPr/>
          <p:nvPr/>
        </p:nvSpPr>
        <p:spPr>
          <a:xfrm>
            <a:off x="4464000" y="492912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2603520" y="3828960"/>
            <a:ext cx="457200" cy="3384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895480" y="2514600"/>
            <a:ext cx="1067040" cy="21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0000"/>
                </a:solidFill>
                <a:latin typeface="Times New Roman"/>
              </a:rPr>
              <a:t>τομογραφία</a:t>
            </a: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 (P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3962520" y="2514600"/>
            <a:ext cx="295200" cy="304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679120" y="3448080"/>
            <a:ext cx="788760" cy="337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υπεραγώγιμο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μαγνήτε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37040" y="276228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επιταχυντές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θεραπεία καρκίνο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11200" y="3828960"/>
            <a:ext cx="924480" cy="337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ηλεκτρικό ρεύμ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10 000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11280" y="2871360"/>
            <a:ext cx="41576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2960" y="3252960"/>
            <a:ext cx="1189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st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9160" y="3938760"/>
            <a:ext cx="2864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έλεγχος επιταχυντ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88120" y="4548240"/>
            <a:ext cx="2692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έλεγχος ανιχνευτ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016080" y="3100320"/>
            <a:ext cx="1317960" cy="8604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9"/>
          <a:stretch/>
        </p:blipFill>
        <p:spPr>
          <a:xfrm>
            <a:off x="3900600" y="4014720"/>
            <a:ext cx="6746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0"/>
          <a:stretch/>
        </p:blipFill>
        <p:spPr>
          <a:xfrm>
            <a:off x="730080" y="3176640"/>
            <a:ext cx="578160" cy="885600"/>
          </a:xfrm>
          <a:prstGeom prst="rect">
            <a:avLst/>
          </a:prstGeom>
          <a:ln w="0">
            <a:noFill/>
          </a:ln>
        </p:spPr>
      </p:pic>
      <p:sp>
        <p:nvSpPr>
          <p:cNvPr id="317" name="">
            <a:hlinkClick r:id="rId11" action="ppaction://hlinksldjump"/>
          </p:cNvPr>
          <p:cNvSpPr/>
          <p:nvPr/>
        </p:nvSpPr>
        <p:spPr>
          <a:xfrm>
            <a:off x="4387680" y="492912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23640" y="4508640"/>
            <a:ext cx="2381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imes New Roman"/>
              </a:rPr>
              <a:t>ηλεκτρονικ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rId12" action="ppaction://hlinksldjump"/>
          </p:cNvPr>
          <p:cNvSpPr/>
          <p:nvPr/>
        </p:nvSpPr>
        <p:spPr>
          <a:xfrm flipV="1">
            <a:off x="5643720" y="47592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0560" y="5586480"/>
            <a:ext cx="1401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057400" y="5268960"/>
            <a:ext cx="31428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057400" y="525096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5983200"/>
            <a:ext cx="190512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57400" y="5983200"/>
            <a:ext cx="30492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13" action="ppaction://hlinksldjump"/>
          </p:cNvPr>
          <p:cNvSpPr/>
          <p:nvPr/>
        </p:nvSpPr>
        <p:spPr>
          <a:xfrm flipV="1">
            <a:off x="1981080" y="586044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371680" y="5250600"/>
            <a:ext cx="15908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4"/>
          <a:stretch/>
        </p:blipFill>
        <p:spPr>
          <a:xfrm>
            <a:off x="2514600" y="5632560"/>
            <a:ext cx="380880" cy="3124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5"/>
          <a:stretch/>
        </p:blipFill>
        <p:spPr>
          <a:xfrm>
            <a:off x="3276720" y="5327640"/>
            <a:ext cx="609480" cy="4287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283840" y="5403960"/>
            <a:ext cx="941040" cy="21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Tim Berends-L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2520" y="5784840"/>
            <a:ext cx="942840" cy="21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Times New Roman"/>
              </a:rPr>
              <a:t>παγκόσμιος ιστό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050920" y="5950080"/>
            <a:ext cx="579780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050920" y="2743200"/>
            <a:ext cx="5797800" cy="320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981080" y="2274840"/>
            <a:ext cx="2438640" cy="838080"/>
            <a:chOff x="1981080" y="2274840"/>
            <a:chExt cx="2438640" cy="838080"/>
          </a:xfrm>
        </p:grpSpPr>
        <p:sp>
          <p:nvSpPr>
            <p:cNvPr id="334" name=""/>
            <p:cNvSpPr/>
            <p:nvPr/>
          </p:nvSpPr>
          <p:spPr>
            <a:xfrm flipV="1">
              <a:off x="2057400" y="2274840"/>
              <a:ext cx="3142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57400" y="2381400"/>
              <a:ext cx="31428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57400" y="2381400"/>
              <a:ext cx="2362320" cy="73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057400" y="2274840"/>
              <a:ext cx="236232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71680" y="2274840"/>
              <a:ext cx="204804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2451240" y="2792520"/>
              <a:ext cx="78732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2439720" y="2362320"/>
              <a:ext cx="81180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800" spc="-1" strike="noStrike">
                  <a:solidFill>
                    <a:srgbClr val="ff0000"/>
                  </a:solidFill>
                  <a:latin typeface="Times New Roman"/>
                </a:rPr>
                <a:t>ακτινογραφίες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16760" y="2743200"/>
              <a:ext cx="69732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0000"/>
                  </a:solidFill>
                  <a:latin typeface="Times New Roman"/>
                </a:rPr>
                <a:t>επιταχυντές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>
              <a:hlinkClick r:id="rId3" action="ppaction://hlinksldjump"/>
            </p:cNvPr>
            <p:cNvSpPr/>
            <p:nvPr/>
          </p:nvSpPr>
          <p:spPr>
            <a:xfrm>
              <a:off x="1981080" y="22860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362320" y="3352680"/>
            <a:ext cx="2438280" cy="838440"/>
            <a:chOff x="2362320" y="3352680"/>
            <a:chExt cx="2438280" cy="838440"/>
          </a:xfrm>
        </p:grpSpPr>
        <p:sp>
          <p:nvSpPr>
            <p:cNvPr id="344" name=""/>
            <p:cNvSpPr/>
            <p:nvPr/>
          </p:nvSpPr>
          <p:spPr>
            <a:xfrm>
              <a:off x="2438280" y="3459240"/>
              <a:ext cx="31428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38280" y="3459240"/>
              <a:ext cx="236232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2438280" y="3352680"/>
              <a:ext cx="236232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2438280" y="3398760"/>
              <a:ext cx="30492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>
              <a:hlinkClick r:id="rId4" action="ppaction://hlinksldjump"/>
            </p:cNvPr>
            <p:cNvSpPr/>
            <p:nvPr/>
          </p:nvSpPr>
          <p:spPr>
            <a:xfrm>
              <a:off x="236232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52560" y="3352680"/>
              <a:ext cx="204804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2971800" y="4495320"/>
            <a:ext cx="2438280" cy="838440"/>
            <a:chOff x="2971800" y="4495320"/>
            <a:chExt cx="2438280" cy="838440"/>
          </a:xfrm>
        </p:grpSpPr>
        <p:sp>
          <p:nvSpPr>
            <p:cNvPr id="351" name=""/>
            <p:cNvSpPr/>
            <p:nvPr/>
          </p:nvSpPr>
          <p:spPr>
            <a:xfrm flipV="1">
              <a:off x="3048120" y="4512960"/>
              <a:ext cx="31428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048120" y="4495320"/>
              <a:ext cx="236196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48120" y="5227200"/>
              <a:ext cx="23619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48120" y="5181120"/>
              <a:ext cx="3045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>
              <a:hlinkClick r:id="rId5" action="ppaction://hlinksldjump"/>
            </p:cNvPr>
            <p:cNvSpPr/>
            <p:nvPr/>
          </p:nvSpPr>
          <p:spPr>
            <a:xfrm flipV="1">
              <a:off x="2971800" y="5104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362400" y="4494960"/>
              <a:ext cx="204768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03120" y="838080"/>
            <a:ext cx="580572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Εφαρμογές της έρευνα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6840" y="1981080"/>
            <a:ext cx="152352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ιατρικ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3154320"/>
            <a:ext cx="17748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μαγνήτε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20760" y="4508640"/>
            <a:ext cx="2381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imes New Roman"/>
              </a:rPr>
              <a:t>ηλεκτρονικ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050920" y="2828880"/>
            <a:ext cx="906480" cy="312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24000" y="5950080"/>
            <a:ext cx="84780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6"/>
          <a:stretch/>
        </p:blipFill>
        <p:spPr>
          <a:xfrm>
            <a:off x="3962520" y="2438280"/>
            <a:ext cx="295200" cy="3049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895480" y="2514600"/>
            <a:ext cx="1067040" cy="21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0000"/>
                </a:solidFill>
                <a:latin typeface="Times New Roman"/>
              </a:rPr>
              <a:t>τομογραφία</a:t>
            </a: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 (P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2819520" y="3809880"/>
            <a:ext cx="457200" cy="3384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 flipV="1">
            <a:off x="2957400" y="2735640"/>
            <a:ext cx="4891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3124080" y="4419720"/>
            <a:ext cx="1886040" cy="15476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9"/>
          <a:stretch/>
        </p:blipFill>
        <p:spPr>
          <a:xfrm>
            <a:off x="5715000" y="2895480"/>
            <a:ext cx="2009880" cy="1414440"/>
          </a:xfrm>
          <a:prstGeom prst="rect">
            <a:avLst/>
          </a:prstGeom>
          <a:ln w="0">
            <a:noFill/>
          </a:ln>
        </p:spPr>
      </p:pic>
      <p:sp>
        <p:nvSpPr>
          <p:cNvPr id="369" name="">
            <a:hlinkClick r:id="rId10" action="ppaction://hlinksldjump"/>
          </p:cNvPr>
          <p:cNvSpPr/>
          <p:nvPr/>
        </p:nvSpPr>
        <p:spPr>
          <a:xfrm>
            <a:off x="7543800" y="59436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3720" y="3886200"/>
            <a:ext cx="2289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im Berner-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83640" y="4952880"/>
            <a:ext cx="2454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παγκόσμιος ιστό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0560" y="5586480"/>
            <a:ext cx="140148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11" action="ppaction://hlinksldjump"/>
          </p:cNvPr>
          <p:cNvSpPr/>
          <p:nvPr/>
        </p:nvSpPr>
        <p:spPr>
          <a:xfrm flipV="1">
            <a:off x="1981080" y="586044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213200" y="2103480"/>
            <a:ext cx="6711120" cy="2104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</a:rPr>
              <a:t>...η σημερινή βασική έρευν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</a:rPr>
              <a:t>είναι ο “σπόρος” τη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</a:rPr>
              <a:t>αυριανής τεχνολογίας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3760" y="912960"/>
            <a:ext cx="32241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Περιεχόμεν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6200" y="1857240"/>
            <a:ext cx="56743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Ο πίνακας των στοιχειωδών σωματιδί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... και οι αλληλεπιδράσεις τ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Ενοποίηση και Καθιερωμένο Πρότυπ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...και τα πειράματα πώς γίνοντα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1240" y="3394080"/>
            <a:ext cx="3435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τα σύγχρονα πειρά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επιταχυντ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ανιχνευτ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2880" y="4460760"/>
            <a:ext cx="3351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εφαρμογές της έρευν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24600" y="241200"/>
            <a:ext cx="2905200" cy="366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81920" y="4876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368280" y="1231920"/>
            <a:ext cx="2724120" cy="18162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01600" y="1077840"/>
            <a:ext cx="2951280" cy="20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3" action="ppaction://hlinksldjump"/>
          </p:cNvPr>
          <p:cNvSpPr/>
          <p:nvPr/>
        </p:nvSpPr>
        <p:spPr>
          <a:xfrm>
            <a:off x="3365640" y="6108840"/>
            <a:ext cx="268200" cy="38088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380880"/>
              <a:gd name="textAreaBottom" fmla="*/ 363600 h 380880"/>
            </a:gdLst>
            <a:ahLst/>
            <a:rect l="textAreaLeft" t="textAreaTop" r="textAreaRight" b="textAreaBottom"/>
            <a:pathLst>
              <a:path w="21600" h="30663">
                <a:moveTo>
                  <a:pt x="0" y="0"/>
                </a:moveTo>
                <a:lnTo>
                  <a:pt x="21600" y="0"/>
                </a:lnTo>
                <a:lnTo>
                  <a:pt x="21600" y="30663"/>
                </a:lnTo>
                <a:lnTo>
                  <a:pt x="0" y="30663"/>
                </a:lnTo>
                <a:close/>
              </a:path>
              <a:path fill="lightenLess" w="21600" h="306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63">
                <a:moveTo>
                  <a:pt x="21600" y="0"/>
                </a:moveTo>
                <a:lnTo>
                  <a:pt x="21600" y="30663"/>
                </a:lnTo>
                <a:lnTo>
                  <a:pt x="20200" y="29263"/>
                </a:lnTo>
                <a:lnTo>
                  <a:pt x="20200" y="1400"/>
                </a:lnTo>
                <a:close/>
              </a:path>
              <a:path fill="darkenLess" w="21600" h="30663">
                <a:moveTo>
                  <a:pt x="21600" y="30663"/>
                </a:moveTo>
                <a:lnTo>
                  <a:pt x="0" y="30663"/>
                </a:lnTo>
                <a:lnTo>
                  <a:pt x="1400" y="29263"/>
                </a:lnTo>
                <a:lnTo>
                  <a:pt x="20200" y="29263"/>
                </a:lnTo>
                <a:close/>
              </a:path>
              <a:path fill="lighten" w="21600" h="30663">
                <a:moveTo>
                  <a:pt x="0" y="306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63"/>
                </a:lnTo>
                <a:close/>
              </a:path>
              <a:path fill="darken" w="21600" h="30663">
                <a:moveTo>
                  <a:pt x="3794" y="12024"/>
                </a:moveTo>
                <a:lnTo>
                  <a:pt x="7301" y="12024"/>
                </a:lnTo>
                <a:lnTo>
                  <a:pt x="7301" y="17359"/>
                </a:lnTo>
                <a:cubicBezTo>
                  <a:pt x="7301" y="18282"/>
                  <a:pt x="8102" y="19013"/>
                  <a:pt x="9138" y="19013"/>
                </a:cubicBezTo>
                <a:lnTo>
                  <a:pt x="10800" y="19013"/>
                </a:lnTo>
                <a:cubicBezTo>
                  <a:pt x="11836" y="19013"/>
                  <a:pt x="12636" y="18282"/>
                  <a:pt x="12636" y="17359"/>
                </a:cubicBezTo>
                <a:lnTo>
                  <a:pt x="12636" y="12024"/>
                </a:lnTo>
                <a:lnTo>
                  <a:pt x="10800" y="12024"/>
                </a:lnTo>
                <a:lnTo>
                  <a:pt x="14308" y="8516"/>
                </a:lnTo>
                <a:lnTo>
                  <a:pt x="17981" y="12024"/>
                </a:lnTo>
                <a:lnTo>
                  <a:pt x="16144" y="12024"/>
                </a:lnTo>
                <a:lnTo>
                  <a:pt x="16144" y="17359"/>
                </a:lnTo>
                <a:cubicBezTo>
                  <a:pt x="16144" y="20127"/>
                  <a:pt x="13568" y="22686"/>
                  <a:pt x="10800" y="22686"/>
                </a:cubicBezTo>
                <a:lnTo>
                  <a:pt x="9138" y="22686"/>
                </a:lnTo>
                <a:cubicBezTo>
                  <a:pt x="6370" y="22686"/>
                  <a:pt x="3794" y="20127"/>
                  <a:pt x="3794" y="17359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00360" y="1371600"/>
            <a:ext cx="2171880" cy="173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38520" y="1441440"/>
            <a:ext cx="2089080" cy="15685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7539120" y="4289400"/>
            <a:ext cx="125712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07160" y="4338720"/>
            <a:ext cx="1155960" cy="17240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7539120" y="4289400"/>
            <a:ext cx="125712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0520" y="3643200"/>
            <a:ext cx="3065400" cy="2106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35320" y="4237200"/>
            <a:ext cx="2801880" cy="1900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07160" y="4338720"/>
            <a:ext cx="1155960" cy="17240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99960" y="3746520"/>
            <a:ext cx="2917800" cy="19558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248000" y="4343400"/>
            <a:ext cx="2610000" cy="1739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4"/>
          <a:stretch/>
        </p:blipFill>
        <p:spPr>
          <a:xfrm>
            <a:off x="3738600" y="90360"/>
            <a:ext cx="520380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76880" y="393840"/>
            <a:ext cx="2664000" cy="33861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024600" y="241200"/>
            <a:ext cx="2905200" cy="366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81920" y="4876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368280" y="1231920"/>
            <a:ext cx="2724120" cy="18162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201600" y="1077840"/>
            <a:ext cx="2951280" cy="20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rId5" action="ppaction://hlinksldjump"/>
          </p:cNvPr>
          <p:cNvSpPr/>
          <p:nvPr/>
        </p:nvSpPr>
        <p:spPr>
          <a:xfrm>
            <a:off x="5880240" y="6324480"/>
            <a:ext cx="268200" cy="38124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381240"/>
              <a:gd name="textAreaBottom" fmla="*/ 363960 h 381240"/>
            </a:gdLst>
            <a:ahLst/>
            <a:rect l="textAreaLeft" t="textAreaTop" r="textAreaRight" b="textAreaBottom"/>
            <a:pathLst>
              <a:path w="21600" h="30692">
                <a:moveTo>
                  <a:pt x="0" y="0"/>
                </a:moveTo>
                <a:lnTo>
                  <a:pt x="21600" y="0"/>
                </a:lnTo>
                <a:lnTo>
                  <a:pt x="21600" y="30692"/>
                </a:lnTo>
                <a:lnTo>
                  <a:pt x="0" y="30692"/>
                </a:lnTo>
                <a:close/>
              </a:path>
              <a:path fill="lightenLess" w="21600" h="30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92">
                <a:moveTo>
                  <a:pt x="21600" y="0"/>
                </a:moveTo>
                <a:lnTo>
                  <a:pt x="21600" y="30692"/>
                </a:lnTo>
                <a:lnTo>
                  <a:pt x="20200" y="29292"/>
                </a:lnTo>
                <a:lnTo>
                  <a:pt x="20200" y="1400"/>
                </a:lnTo>
                <a:close/>
              </a:path>
              <a:path fill="darkenLess" w="21600" h="30692">
                <a:moveTo>
                  <a:pt x="21600" y="30692"/>
                </a:moveTo>
                <a:lnTo>
                  <a:pt x="0" y="30692"/>
                </a:lnTo>
                <a:lnTo>
                  <a:pt x="1400" y="29292"/>
                </a:lnTo>
                <a:lnTo>
                  <a:pt x="20200" y="29292"/>
                </a:lnTo>
                <a:close/>
              </a:path>
              <a:path fill="lighten" w="21600" h="30692">
                <a:moveTo>
                  <a:pt x="0" y="30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92"/>
                </a:lnTo>
                <a:close/>
              </a:path>
              <a:path fill="darken" w="21600" h="30692">
                <a:moveTo>
                  <a:pt x="3794" y="12038"/>
                </a:moveTo>
                <a:lnTo>
                  <a:pt x="7301" y="12038"/>
                </a:lnTo>
                <a:lnTo>
                  <a:pt x="7301" y="17374"/>
                </a:lnTo>
                <a:cubicBezTo>
                  <a:pt x="7301" y="18296"/>
                  <a:pt x="8102" y="19028"/>
                  <a:pt x="9138" y="19028"/>
                </a:cubicBezTo>
                <a:lnTo>
                  <a:pt x="10800" y="19028"/>
                </a:lnTo>
                <a:cubicBezTo>
                  <a:pt x="11836" y="19028"/>
                  <a:pt x="12636" y="18296"/>
                  <a:pt x="12636" y="17374"/>
                </a:cubicBezTo>
                <a:lnTo>
                  <a:pt x="12636" y="12038"/>
                </a:lnTo>
                <a:lnTo>
                  <a:pt x="10800" y="12038"/>
                </a:lnTo>
                <a:lnTo>
                  <a:pt x="14308" y="8531"/>
                </a:lnTo>
                <a:lnTo>
                  <a:pt x="17981" y="12038"/>
                </a:lnTo>
                <a:lnTo>
                  <a:pt x="16144" y="12038"/>
                </a:lnTo>
                <a:lnTo>
                  <a:pt x="16144" y="17374"/>
                </a:lnTo>
                <a:cubicBezTo>
                  <a:pt x="16144" y="20142"/>
                  <a:pt x="13568" y="22700"/>
                  <a:pt x="10800" y="22700"/>
                </a:cubicBezTo>
                <a:lnTo>
                  <a:pt x="9138" y="22700"/>
                </a:lnTo>
                <a:cubicBezTo>
                  <a:pt x="6370" y="22700"/>
                  <a:pt x="3794" y="20142"/>
                  <a:pt x="3794" y="17374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00360" y="1371600"/>
            <a:ext cx="2171880" cy="173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38520" y="1441440"/>
            <a:ext cx="2089080" cy="1568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7539120" y="4289400"/>
            <a:ext cx="125712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0520" y="3643200"/>
            <a:ext cx="3065400" cy="2106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35320" y="4237200"/>
            <a:ext cx="2801880" cy="1900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07160" y="4338720"/>
            <a:ext cx="1155960" cy="17240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99960" y="3746520"/>
            <a:ext cx="2917800" cy="19558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248000" y="4343400"/>
            <a:ext cx="2610000" cy="17398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4"/>
          <a:stretch/>
        </p:blipFill>
        <p:spPr>
          <a:xfrm>
            <a:off x="5321160" y="782640"/>
            <a:ext cx="35816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76880" y="393840"/>
            <a:ext cx="2664000" cy="33861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024600" y="241200"/>
            <a:ext cx="2905200" cy="366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81920" y="4876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1600" y="1077840"/>
            <a:ext cx="2951280" cy="20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rId4" action="ppaction://hlinksldjump"/>
          </p:cNvPr>
          <p:cNvSpPr/>
          <p:nvPr/>
        </p:nvSpPr>
        <p:spPr>
          <a:xfrm>
            <a:off x="5981760" y="6210360"/>
            <a:ext cx="268200" cy="38088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380880"/>
              <a:gd name="textAreaBottom" fmla="*/ 363600 h 380880"/>
            </a:gdLst>
            <a:ahLst/>
            <a:rect l="textAreaLeft" t="textAreaTop" r="textAreaRight" b="textAreaBottom"/>
            <a:pathLst>
              <a:path w="21600" h="30663">
                <a:moveTo>
                  <a:pt x="0" y="0"/>
                </a:moveTo>
                <a:lnTo>
                  <a:pt x="21600" y="0"/>
                </a:lnTo>
                <a:lnTo>
                  <a:pt x="21600" y="30663"/>
                </a:lnTo>
                <a:lnTo>
                  <a:pt x="0" y="30663"/>
                </a:lnTo>
                <a:close/>
              </a:path>
              <a:path fill="lightenLess" w="21600" h="306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63">
                <a:moveTo>
                  <a:pt x="21600" y="0"/>
                </a:moveTo>
                <a:lnTo>
                  <a:pt x="21600" y="30663"/>
                </a:lnTo>
                <a:lnTo>
                  <a:pt x="20200" y="29263"/>
                </a:lnTo>
                <a:lnTo>
                  <a:pt x="20200" y="1400"/>
                </a:lnTo>
                <a:close/>
              </a:path>
              <a:path fill="darkenLess" w="21600" h="30663">
                <a:moveTo>
                  <a:pt x="21600" y="30663"/>
                </a:moveTo>
                <a:lnTo>
                  <a:pt x="0" y="30663"/>
                </a:lnTo>
                <a:lnTo>
                  <a:pt x="1400" y="29263"/>
                </a:lnTo>
                <a:lnTo>
                  <a:pt x="20200" y="29263"/>
                </a:lnTo>
                <a:close/>
              </a:path>
              <a:path fill="lighten" w="21600" h="30663">
                <a:moveTo>
                  <a:pt x="0" y="306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63"/>
                </a:lnTo>
                <a:close/>
              </a:path>
              <a:path fill="darken" w="21600" h="30663">
                <a:moveTo>
                  <a:pt x="3794" y="12024"/>
                </a:moveTo>
                <a:lnTo>
                  <a:pt x="7301" y="12024"/>
                </a:lnTo>
                <a:lnTo>
                  <a:pt x="7301" y="17359"/>
                </a:lnTo>
                <a:cubicBezTo>
                  <a:pt x="7301" y="18282"/>
                  <a:pt x="8102" y="19013"/>
                  <a:pt x="9138" y="19013"/>
                </a:cubicBezTo>
                <a:lnTo>
                  <a:pt x="10800" y="19013"/>
                </a:lnTo>
                <a:cubicBezTo>
                  <a:pt x="11836" y="19013"/>
                  <a:pt x="12636" y="18282"/>
                  <a:pt x="12636" y="17359"/>
                </a:cubicBezTo>
                <a:lnTo>
                  <a:pt x="12636" y="12024"/>
                </a:lnTo>
                <a:lnTo>
                  <a:pt x="10800" y="12024"/>
                </a:lnTo>
                <a:lnTo>
                  <a:pt x="14308" y="8516"/>
                </a:lnTo>
                <a:lnTo>
                  <a:pt x="17981" y="12024"/>
                </a:lnTo>
                <a:lnTo>
                  <a:pt x="16144" y="12024"/>
                </a:lnTo>
                <a:lnTo>
                  <a:pt x="16144" y="17359"/>
                </a:lnTo>
                <a:cubicBezTo>
                  <a:pt x="16144" y="20127"/>
                  <a:pt x="13568" y="22686"/>
                  <a:pt x="10800" y="22686"/>
                </a:cubicBezTo>
                <a:lnTo>
                  <a:pt x="9138" y="22686"/>
                </a:lnTo>
                <a:cubicBezTo>
                  <a:pt x="6370" y="22686"/>
                  <a:pt x="3794" y="20127"/>
                  <a:pt x="3794" y="17359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00360" y="1371600"/>
            <a:ext cx="2171880" cy="173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638520" y="1441440"/>
            <a:ext cx="2089080" cy="15685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7539120" y="4289400"/>
            <a:ext cx="125712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0520" y="3643200"/>
            <a:ext cx="3065400" cy="2106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35320" y="4237200"/>
            <a:ext cx="2801880" cy="1900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07160" y="4338720"/>
            <a:ext cx="1155960" cy="17240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9"/>
          <a:stretch/>
        </p:blipFill>
        <p:spPr>
          <a:xfrm>
            <a:off x="399960" y="3746520"/>
            <a:ext cx="2917800" cy="19558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10"/>
          <a:stretch/>
        </p:blipFill>
        <p:spPr>
          <a:xfrm>
            <a:off x="4248000" y="4343400"/>
            <a:ext cx="2610000" cy="17398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11"/>
          <a:stretch/>
        </p:blipFill>
        <p:spPr>
          <a:xfrm>
            <a:off x="368280" y="123192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76880" y="393840"/>
            <a:ext cx="2664000" cy="3386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024600" y="241200"/>
            <a:ext cx="2905200" cy="366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81920" y="4876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368280" y="1231920"/>
            <a:ext cx="2724120" cy="18162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201600" y="1077840"/>
            <a:ext cx="2951280" cy="20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00360" y="1371600"/>
            <a:ext cx="2171880" cy="173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638520" y="1441440"/>
            <a:ext cx="2089080" cy="15685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7539120" y="4289400"/>
            <a:ext cx="125712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0520" y="3643200"/>
            <a:ext cx="3065400" cy="2106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35320" y="4237200"/>
            <a:ext cx="2801880" cy="1900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7607160" y="4338720"/>
            <a:ext cx="1155960" cy="17240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399960" y="3746520"/>
            <a:ext cx="2917800" cy="19558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9"/>
          <a:stretch/>
        </p:blipFill>
        <p:spPr>
          <a:xfrm>
            <a:off x="4248000" y="4343400"/>
            <a:ext cx="2610000" cy="1739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0"/>
          <a:stretch/>
        </p:blipFill>
        <p:spPr>
          <a:xfrm>
            <a:off x="1365120" y="590400"/>
            <a:ext cx="6515280" cy="4889520"/>
          </a:xfrm>
          <a:prstGeom prst="rect">
            <a:avLst/>
          </a:prstGeom>
          <a:ln w="0">
            <a:noFill/>
          </a:ln>
        </p:spPr>
      </p:pic>
      <p:sp>
        <p:nvSpPr>
          <p:cNvPr id="434" name="">
            <a:hlinkClick r:id="rId11" action="ppaction://hlinksldjump"/>
          </p:cNvPr>
          <p:cNvSpPr/>
          <p:nvPr/>
        </p:nvSpPr>
        <p:spPr>
          <a:xfrm>
            <a:off x="3657600" y="5702400"/>
            <a:ext cx="268200" cy="38088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380880"/>
              <a:gd name="textAreaBottom" fmla="*/ 363600 h 380880"/>
            </a:gdLst>
            <a:ahLst/>
            <a:rect l="textAreaLeft" t="textAreaTop" r="textAreaRight" b="textAreaBottom"/>
            <a:pathLst>
              <a:path w="21600" h="30663">
                <a:moveTo>
                  <a:pt x="0" y="0"/>
                </a:moveTo>
                <a:lnTo>
                  <a:pt x="21600" y="0"/>
                </a:lnTo>
                <a:lnTo>
                  <a:pt x="21600" y="30663"/>
                </a:lnTo>
                <a:lnTo>
                  <a:pt x="0" y="30663"/>
                </a:lnTo>
                <a:close/>
              </a:path>
              <a:path fill="lightenLess" w="21600" h="306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63">
                <a:moveTo>
                  <a:pt x="21600" y="0"/>
                </a:moveTo>
                <a:lnTo>
                  <a:pt x="21600" y="30663"/>
                </a:lnTo>
                <a:lnTo>
                  <a:pt x="20200" y="29263"/>
                </a:lnTo>
                <a:lnTo>
                  <a:pt x="20200" y="1400"/>
                </a:lnTo>
                <a:close/>
              </a:path>
              <a:path fill="darkenLess" w="21600" h="30663">
                <a:moveTo>
                  <a:pt x="21600" y="30663"/>
                </a:moveTo>
                <a:lnTo>
                  <a:pt x="0" y="30663"/>
                </a:lnTo>
                <a:lnTo>
                  <a:pt x="1400" y="29263"/>
                </a:lnTo>
                <a:lnTo>
                  <a:pt x="20200" y="29263"/>
                </a:lnTo>
                <a:close/>
              </a:path>
              <a:path fill="lighten" w="21600" h="30663">
                <a:moveTo>
                  <a:pt x="0" y="306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63"/>
                </a:lnTo>
                <a:close/>
              </a:path>
              <a:path fill="darken" w="21600" h="30663">
                <a:moveTo>
                  <a:pt x="3794" y="12024"/>
                </a:moveTo>
                <a:lnTo>
                  <a:pt x="7301" y="12024"/>
                </a:lnTo>
                <a:lnTo>
                  <a:pt x="7301" y="17359"/>
                </a:lnTo>
                <a:cubicBezTo>
                  <a:pt x="7301" y="18282"/>
                  <a:pt x="8102" y="19013"/>
                  <a:pt x="9138" y="19013"/>
                </a:cubicBezTo>
                <a:lnTo>
                  <a:pt x="10800" y="19013"/>
                </a:lnTo>
                <a:cubicBezTo>
                  <a:pt x="11836" y="19013"/>
                  <a:pt x="12636" y="18282"/>
                  <a:pt x="12636" y="17359"/>
                </a:cubicBezTo>
                <a:lnTo>
                  <a:pt x="12636" y="12024"/>
                </a:lnTo>
                <a:lnTo>
                  <a:pt x="10800" y="12024"/>
                </a:lnTo>
                <a:lnTo>
                  <a:pt x="14308" y="8516"/>
                </a:lnTo>
                <a:lnTo>
                  <a:pt x="17981" y="12024"/>
                </a:lnTo>
                <a:lnTo>
                  <a:pt x="16144" y="12024"/>
                </a:lnTo>
                <a:lnTo>
                  <a:pt x="16144" y="17359"/>
                </a:lnTo>
                <a:cubicBezTo>
                  <a:pt x="16144" y="20127"/>
                  <a:pt x="13568" y="22686"/>
                  <a:pt x="10800" y="22686"/>
                </a:cubicBezTo>
                <a:lnTo>
                  <a:pt x="9138" y="22686"/>
                </a:lnTo>
                <a:cubicBezTo>
                  <a:pt x="6370" y="22686"/>
                  <a:pt x="3794" y="20127"/>
                  <a:pt x="3794" y="17359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76880" y="393840"/>
            <a:ext cx="2664000" cy="33861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024600" y="241200"/>
            <a:ext cx="2905200" cy="366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181920" y="4876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368280" y="1231920"/>
            <a:ext cx="2724120" cy="18162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01600" y="1077840"/>
            <a:ext cx="2951280" cy="20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5" action="ppaction://hlinksldjump"/>
          </p:cNvPr>
          <p:cNvSpPr/>
          <p:nvPr/>
        </p:nvSpPr>
        <p:spPr>
          <a:xfrm>
            <a:off x="5867280" y="6426360"/>
            <a:ext cx="268560" cy="380880"/>
          </a:xfrm>
          <a:custGeom>
            <a:avLst/>
            <a:gdLst>
              <a:gd name="textAreaLeft" fmla="*/ 17280 w 268560"/>
              <a:gd name="textAreaRight" fmla="*/ 251280 w 268560"/>
              <a:gd name="textAreaTop" fmla="*/ 17280 h 380880"/>
              <a:gd name="textAreaBottom" fmla="*/ 363600 h 380880"/>
            </a:gdLst>
            <a:ahLst/>
            <a:rect l="textAreaLeft" t="textAreaTop" r="textAreaRight" b="textAreaBottom"/>
            <a:pathLst>
              <a:path w="21600" h="30622">
                <a:moveTo>
                  <a:pt x="0" y="0"/>
                </a:moveTo>
                <a:lnTo>
                  <a:pt x="21600" y="0"/>
                </a:lnTo>
                <a:lnTo>
                  <a:pt x="21600" y="30622"/>
                </a:lnTo>
                <a:lnTo>
                  <a:pt x="0" y="30622"/>
                </a:lnTo>
                <a:close/>
              </a:path>
              <a:path fill="lightenLess" w="21600" h="30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22">
                <a:moveTo>
                  <a:pt x="21600" y="0"/>
                </a:moveTo>
                <a:lnTo>
                  <a:pt x="21600" y="30622"/>
                </a:lnTo>
                <a:lnTo>
                  <a:pt x="20200" y="29222"/>
                </a:lnTo>
                <a:lnTo>
                  <a:pt x="20200" y="1400"/>
                </a:lnTo>
                <a:close/>
              </a:path>
              <a:path fill="darkenLess" w="21600" h="30622">
                <a:moveTo>
                  <a:pt x="21600" y="30622"/>
                </a:moveTo>
                <a:lnTo>
                  <a:pt x="0" y="30622"/>
                </a:lnTo>
                <a:lnTo>
                  <a:pt x="1400" y="29222"/>
                </a:lnTo>
                <a:lnTo>
                  <a:pt x="20200" y="29222"/>
                </a:lnTo>
                <a:close/>
              </a:path>
              <a:path fill="lighten" w="21600" h="30622">
                <a:moveTo>
                  <a:pt x="0" y="30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22"/>
                </a:lnTo>
                <a:close/>
              </a:path>
              <a:path fill="darken" w="21600" h="30622">
                <a:moveTo>
                  <a:pt x="3794" y="12003"/>
                </a:moveTo>
                <a:lnTo>
                  <a:pt x="7301" y="12003"/>
                </a:lnTo>
                <a:lnTo>
                  <a:pt x="7301" y="17339"/>
                </a:lnTo>
                <a:cubicBezTo>
                  <a:pt x="7301" y="18261"/>
                  <a:pt x="8102" y="18993"/>
                  <a:pt x="9138" y="18993"/>
                </a:cubicBezTo>
                <a:lnTo>
                  <a:pt x="10800" y="18993"/>
                </a:lnTo>
                <a:cubicBezTo>
                  <a:pt x="11836" y="18993"/>
                  <a:pt x="12636" y="18261"/>
                  <a:pt x="12636" y="17339"/>
                </a:cubicBezTo>
                <a:lnTo>
                  <a:pt x="12636" y="12003"/>
                </a:lnTo>
                <a:lnTo>
                  <a:pt x="10800" y="12003"/>
                </a:lnTo>
                <a:lnTo>
                  <a:pt x="14308" y="8496"/>
                </a:lnTo>
                <a:lnTo>
                  <a:pt x="17981" y="12003"/>
                </a:lnTo>
                <a:lnTo>
                  <a:pt x="16144" y="12003"/>
                </a:lnTo>
                <a:lnTo>
                  <a:pt x="16144" y="17339"/>
                </a:lnTo>
                <a:cubicBezTo>
                  <a:pt x="16144" y="20107"/>
                  <a:pt x="13568" y="22665"/>
                  <a:pt x="10800" y="22665"/>
                </a:cubicBezTo>
                <a:lnTo>
                  <a:pt x="9138" y="22665"/>
                </a:lnTo>
                <a:cubicBezTo>
                  <a:pt x="6370" y="22665"/>
                  <a:pt x="3794" y="20107"/>
                  <a:pt x="3794" y="17339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00360" y="1371600"/>
            <a:ext cx="2171880" cy="173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38520" y="1441440"/>
            <a:ext cx="2089080" cy="156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7539120" y="4289400"/>
            <a:ext cx="125712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0520" y="3643200"/>
            <a:ext cx="3065400" cy="2106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35320" y="4237200"/>
            <a:ext cx="2801880" cy="1900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8"/>
          <a:stretch/>
        </p:blipFill>
        <p:spPr>
          <a:xfrm>
            <a:off x="7607160" y="4338720"/>
            <a:ext cx="1155960" cy="17240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9"/>
          <a:stretch/>
        </p:blipFill>
        <p:spPr>
          <a:xfrm>
            <a:off x="399960" y="3746520"/>
            <a:ext cx="2917800" cy="19558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0"/>
          <a:stretch/>
        </p:blipFill>
        <p:spPr>
          <a:xfrm>
            <a:off x="4248000" y="4343400"/>
            <a:ext cx="261000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1"/>
          <a:stretch/>
        </p:blipFill>
        <p:spPr>
          <a:xfrm>
            <a:off x="374760" y="1066680"/>
            <a:ext cx="71247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76880" y="393840"/>
            <a:ext cx="2664000" cy="33861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024600" y="241200"/>
            <a:ext cx="2905200" cy="366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81920" y="4876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368280" y="1231920"/>
            <a:ext cx="2724120" cy="1816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201600" y="1077840"/>
            <a:ext cx="2951280" cy="20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>
            <a:hlinkClick r:id="rId5" action="ppaction://hlinksldjump"/>
          </p:cNvPr>
          <p:cNvSpPr/>
          <p:nvPr/>
        </p:nvSpPr>
        <p:spPr>
          <a:xfrm>
            <a:off x="457200" y="5892840"/>
            <a:ext cx="268200" cy="38088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380880"/>
              <a:gd name="textAreaBottom" fmla="*/ 363600 h 380880"/>
            </a:gdLst>
            <a:ahLst/>
            <a:rect l="textAreaLeft" t="textAreaTop" r="textAreaRight" b="textAreaBottom"/>
            <a:pathLst>
              <a:path w="21600" h="30663">
                <a:moveTo>
                  <a:pt x="0" y="0"/>
                </a:moveTo>
                <a:lnTo>
                  <a:pt x="21600" y="0"/>
                </a:lnTo>
                <a:lnTo>
                  <a:pt x="21600" y="30663"/>
                </a:lnTo>
                <a:lnTo>
                  <a:pt x="0" y="30663"/>
                </a:lnTo>
                <a:close/>
              </a:path>
              <a:path fill="lightenLess" w="21600" h="306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63">
                <a:moveTo>
                  <a:pt x="21600" y="0"/>
                </a:moveTo>
                <a:lnTo>
                  <a:pt x="21600" y="30663"/>
                </a:lnTo>
                <a:lnTo>
                  <a:pt x="20200" y="29263"/>
                </a:lnTo>
                <a:lnTo>
                  <a:pt x="20200" y="1400"/>
                </a:lnTo>
                <a:close/>
              </a:path>
              <a:path fill="darkenLess" w="21600" h="30663">
                <a:moveTo>
                  <a:pt x="21600" y="30663"/>
                </a:moveTo>
                <a:lnTo>
                  <a:pt x="0" y="30663"/>
                </a:lnTo>
                <a:lnTo>
                  <a:pt x="1400" y="29263"/>
                </a:lnTo>
                <a:lnTo>
                  <a:pt x="20200" y="29263"/>
                </a:lnTo>
                <a:close/>
              </a:path>
              <a:path fill="lighten" w="21600" h="30663">
                <a:moveTo>
                  <a:pt x="0" y="306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63"/>
                </a:lnTo>
                <a:close/>
              </a:path>
              <a:path fill="darken" w="21600" h="30663">
                <a:moveTo>
                  <a:pt x="3794" y="12024"/>
                </a:moveTo>
                <a:lnTo>
                  <a:pt x="7301" y="12024"/>
                </a:lnTo>
                <a:lnTo>
                  <a:pt x="7301" y="17359"/>
                </a:lnTo>
                <a:cubicBezTo>
                  <a:pt x="7301" y="18282"/>
                  <a:pt x="8102" y="19013"/>
                  <a:pt x="9138" y="19013"/>
                </a:cubicBezTo>
                <a:lnTo>
                  <a:pt x="10800" y="19013"/>
                </a:lnTo>
                <a:cubicBezTo>
                  <a:pt x="11836" y="19013"/>
                  <a:pt x="12636" y="18282"/>
                  <a:pt x="12636" y="17359"/>
                </a:cubicBezTo>
                <a:lnTo>
                  <a:pt x="12636" y="12024"/>
                </a:lnTo>
                <a:lnTo>
                  <a:pt x="10800" y="12024"/>
                </a:lnTo>
                <a:lnTo>
                  <a:pt x="14308" y="8516"/>
                </a:lnTo>
                <a:lnTo>
                  <a:pt x="17981" y="12024"/>
                </a:lnTo>
                <a:lnTo>
                  <a:pt x="16144" y="12024"/>
                </a:lnTo>
                <a:lnTo>
                  <a:pt x="16144" y="17359"/>
                </a:lnTo>
                <a:cubicBezTo>
                  <a:pt x="16144" y="20127"/>
                  <a:pt x="13568" y="22686"/>
                  <a:pt x="10800" y="22686"/>
                </a:cubicBezTo>
                <a:lnTo>
                  <a:pt x="9138" y="22686"/>
                </a:lnTo>
                <a:cubicBezTo>
                  <a:pt x="6370" y="22686"/>
                  <a:pt x="3794" y="20127"/>
                  <a:pt x="3794" y="17359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00360" y="1371600"/>
            <a:ext cx="2171880" cy="173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38520" y="1441440"/>
            <a:ext cx="2089080" cy="15685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7539120" y="4289400"/>
            <a:ext cx="125712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0520" y="3643200"/>
            <a:ext cx="3065400" cy="2106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35320" y="4237200"/>
            <a:ext cx="2801880" cy="1900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7607160" y="4338720"/>
            <a:ext cx="1155960" cy="17240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9"/>
          <a:stretch/>
        </p:blipFill>
        <p:spPr>
          <a:xfrm>
            <a:off x="399960" y="3746520"/>
            <a:ext cx="2917800" cy="19558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0"/>
          <a:stretch/>
        </p:blipFill>
        <p:spPr>
          <a:xfrm>
            <a:off x="4248000" y="4343400"/>
            <a:ext cx="2610000" cy="17398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1"/>
          <a:stretch/>
        </p:blipFill>
        <p:spPr>
          <a:xfrm>
            <a:off x="996840" y="1422360"/>
            <a:ext cx="7124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4207320" y="3289320"/>
            <a:ext cx="283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...ανιχνευτέ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209520" y="1101600"/>
            <a:ext cx="2209680" cy="153216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6156360" y="216000"/>
            <a:ext cx="2822400" cy="18399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4178160" y="250920"/>
            <a:ext cx="1778040" cy="27288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5"/>
          <a:stretch/>
        </p:blipFill>
        <p:spPr>
          <a:xfrm>
            <a:off x="7226280" y="2629080"/>
            <a:ext cx="1714680" cy="25603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6"/>
          <a:stretch/>
        </p:blipFill>
        <p:spPr>
          <a:xfrm>
            <a:off x="2260440" y="2746440"/>
            <a:ext cx="1765440" cy="26557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7"/>
          <a:stretch/>
        </p:blipFill>
        <p:spPr>
          <a:xfrm>
            <a:off x="206280" y="36576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8"/>
          <a:stretch/>
        </p:blipFill>
        <p:spPr>
          <a:xfrm>
            <a:off x="4191120" y="4362480"/>
            <a:ext cx="2908080" cy="19479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9"/>
          <a:stretch/>
        </p:blipFill>
        <p:spPr>
          <a:xfrm>
            <a:off x="2362320" y="225360"/>
            <a:ext cx="4178160" cy="6413400"/>
          </a:xfrm>
          <a:prstGeom prst="rect">
            <a:avLst/>
          </a:prstGeom>
          <a:ln w="0">
            <a:noFill/>
          </a:ln>
        </p:spPr>
      </p:pic>
      <p:sp>
        <p:nvSpPr>
          <p:cNvPr id="474" name="">
            <a:hlinkClick r:id="rId10" action="ppaction://hlinksldjump"/>
          </p:cNvPr>
          <p:cNvSpPr/>
          <p:nvPr/>
        </p:nvSpPr>
        <p:spPr>
          <a:xfrm>
            <a:off x="8547120" y="5956200"/>
            <a:ext cx="268200" cy="33192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331920"/>
              <a:gd name="textAreaBottom" fmla="*/ 314640 h 331920"/>
            </a:gdLst>
            <a:ahLst/>
            <a:rect l="textAreaLeft" t="textAreaTop" r="textAreaRight" b="textAreaBottom"/>
            <a:pathLst>
              <a:path w="21600" h="26725">
                <a:moveTo>
                  <a:pt x="0" y="0"/>
                </a:moveTo>
                <a:lnTo>
                  <a:pt x="21600" y="0"/>
                </a:lnTo>
                <a:lnTo>
                  <a:pt x="21600" y="26725"/>
                </a:lnTo>
                <a:lnTo>
                  <a:pt x="0" y="26725"/>
                </a:lnTo>
                <a:close/>
              </a:path>
              <a:path fill="lightenLess" w="21600" h="267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725">
                <a:moveTo>
                  <a:pt x="21600" y="0"/>
                </a:moveTo>
                <a:lnTo>
                  <a:pt x="21600" y="26725"/>
                </a:lnTo>
                <a:lnTo>
                  <a:pt x="20200" y="25325"/>
                </a:lnTo>
                <a:lnTo>
                  <a:pt x="20200" y="1400"/>
                </a:lnTo>
                <a:close/>
              </a:path>
              <a:path fill="darkenLess" w="21600" h="26725">
                <a:moveTo>
                  <a:pt x="21600" y="26725"/>
                </a:moveTo>
                <a:lnTo>
                  <a:pt x="0" y="26725"/>
                </a:lnTo>
                <a:lnTo>
                  <a:pt x="1400" y="25325"/>
                </a:lnTo>
                <a:lnTo>
                  <a:pt x="20200" y="25325"/>
                </a:lnTo>
                <a:close/>
              </a:path>
              <a:path fill="lighten" w="21600" h="26725">
                <a:moveTo>
                  <a:pt x="0" y="267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325"/>
                </a:lnTo>
                <a:close/>
              </a:path>
              <a:path fill="darken" w="21600" h="26725">
                <a:moveTo>
                  <a:pt x="3794" y="10055"/>
                </a:moveTo>
                <a:lnTo>
                  <a:pt x="7301" y="10055"/>
                </a:lnTo>
                <a:lnTo>
                  <a:pt x="7301" y="15390"/>
                </a:lnTo>
                <a:cubicBezTo>
                  <a:pt x="7301" y="16313"/>
                  <a:pt x="8102" y="17044"/>
                  <a:pt x="9138" y="17044"/>
                </a:cubicBezTo>
                <a:lnTo>
                  <a:pt x="10800" y="17044"/>
                </a:lnTo>
                <a:cubicBezTo>
                  <a:pt x="11836" y="17044"/>
                  <a:pt x="12636" y="16313"/>
                  <a:pt x="12636" y="15390"/>
                </a:cubicBezTo>
                <a:lnTo>
                  <a:pt x="12636" y="10055"/>
                </a:lnTo>
                <a:lnTo>
                  <a:pt x="10800" y="10055"/>
                </a:lnTo>
                <a:lnTo>
                  <a:pt x="14308" y="6547"/>
                </a:lnTo>
                <a:lnTo>
                  <a:pt x="17981" y="10055"/>
                </a:lnTo>
                <a:lnTo>
                  <a:pt x="16144" y="10055"/>
                </a:lnTo>
                <a:lnTo>
                  <a:pt x="16144" y="15390"/>
                </a:lnTo>
                <a:cubicBezTo>
                  <a:pt x="16144" y="18158"/>
                  <a:pt x="13568" y="20717"/>
                  <a:pt x="10800" y="20717"/>
                </a:cubicBezTo>
                <a:lnTo>
                  <a:pt x="9138" y="20717"/>
                </a:lnTo>
                <a:cubicBezTo>
                  <a:pt x="6370" y="20717"/>
                  <a:pt x="3794" y="18158"/>
                  <a:pt x="3794" y="15390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207320" y="3289320"/>
            <a:ext cx="283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...ανιχνευτέ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209520" y="1101600"/>
            <a:ext cx="2209680" cy="15321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6156360" y="216000"/>
            <a:ext cx="2822400" cy="18399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78160" y="250920"/>
            <a:ext cx="1778040" cy="272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7226280" y="2629080"/>
            <a:ext cx="1714680" cy="25603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7"/>
          <a:stretch/>
        </p:blipFill>
        <p:spPr>
          <a:xfrm>
            <a:off x="2260440" y="2746440"/>
            <a:ext cx="1765440" cy="26557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8"/>
          <a:stretch/>
        </p:blipFill>
        <p:spPr>
          <a:xfrm>
            <a:off x="206280" y="36576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9"/>
          <a:stretch/>
        </p:blipFill>
        <p:spPr>
          <a:xfrm>
            <a:off x="4191120" y="4362480"/>
            <a:ext cx="2908080" cy="19479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0"/>
          <a:stretch/>
        </p:blipFill>
        <p:spPr>
          <a:xfrm>
            <a:off x="12600" y="338040"/>
            <a:ext cx="9131400" cy="5951520"/>
          </a:xfrm>
          <a:prstGeom prst="rect">
            <a:avLst/>
          </a:prstGeom>
          <a:ln w="0">
            <a:noFill/>
          </a:ln>
        </p:spPr>
      </p:pic>
      <p:sp>
        <p:nvSpPr>
          <p:cNvPr id="484" name="">
            <a:hlinkClick r:id="rId11" action="ppaction://hlinksldjump"/>
          </p:cNvPr>
          <p:cNvSpPr/>
          <p:nvPr/>
        </p:nvSpPr>
        <p:spPr>
          <a:xfrm>
            <a:off x="6184800" y="6362640"/>
            <a:ext cx="268560" cy="331920"/>
          </a:xfrm>
          <a:custGeom>
            <a:avLst/>
            <a:gdLst>
              <a:gd name="textAreaLeft" fmla="*/ 17280 w 268560"/>
              <a:gd name="textAreaRight" fmla="*/ 251280 w 268560"/>
              <a:gd name="textAreaTop" fmla="*/ 17280 h 331920"/>
              <a:gd name="textAreaBottom" fmla="*/ 314640 h 331920"/>
            </a:gdLst>
            <a:ahLst/>
            <a:rect l="textAreaLeft" t="textAreaTop" r="textAreaRight" b="textAreaBottom"/>
            <a:pathLst>
              <a:path w="21600" h="26689">
                <a:moveTo>
                  <a:pt x="0" y="0"/>
                </a:moveTo>
                <a:lnTo>
                  <a:pt x="21600" y="0"/>
                </a:lnTo>
                <a:lnTo>
                  <a:pt x="21600" y="26689"/>
                </a:lnTo>
                <a:lnTo>
                  <a:pt x="0" y="26689"/>
                </a:lnTo>
                <a:close/>
              </a:path>
              <a:path fill="lightenLess" w="21600" h="266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89">
                <a:moveTo>
                  <a:pt x="21600" y="0"/>
                </a:moveTo>
                <a:lnTo>
                  <a:pt x="21600" y="26689"/>
                </a:lnTo>
                <a:lnTo>
                  <a:pt x="20200" y="25289"/>
                </a:lnTo>
                <a:lnTo>
                  <a:pt x="20200" y="1400"/>
                </a:lnTo>
                <a:close/>
              </a:path>
              <a:path fill="darkenLess" w="21600" h="26689">
                <a:moveTo>
                  <a:pt x="21600" y="26689"/>
                </a:moveTo>
                <a:lnTo>
                  <a:pt x="0" y="26689"/>
                </a:lnTo>
                <a:lnTo>
                  <a:pt x="1400" y="25289"/>
                </a:lnTo>
                <a:lnTo>
                  <a:pt x="20200" y="25289"/>
                </a:lnTo>
                <a:close/>
              </a:path>
              <a:path fill="lighten" w="21600" h="26689">
                <a:moveTo>
                  <a:pt x="0" y="266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89"/>
                </a:lnTo>
                <a:close/>
              </a:path>
              <a:path fill="darken" w="21600" h="26689">
                <a:moveTo>
                  <a:pt x="3794" y="10037"/>
                </a:moveTo>
                <a:lnTo>
                  <a:pt x="7301" y="10037"/>
                </a:lnTo>
                <a:lnTo>
                  <a:pt x="7301" y="15373"/>
                </a:lnTo>
                <a:cubicBezTo>
                  <a:pt x="7301" y="16295"/>
                  <a:pt x="8102" y="17026"/>
                  <a:pt x="9138" y="17026"/>
                </a:cubicBezTo>
                <a:lnTo>
                  <a:pt x="10800" y="17026"/>
                </a:lnTo>
                <a:cubicBezTo>
                  <a:pt x="11836" y="17026"/>
                  <a:pt x="12636" y="16295"/>
                  <a:pt x="12636" y="15373"/>
                </a:cubicBezTo>
                <a:lnTo>
                  <a:pt x="12636" y="10037"/>
                </a:lnTo>
                <a:lnTo>
                  <a:pt x="10800" y="10037"/>
                </a:lnTo>
                <a:lnTo>
                  <a:pt x="14308" y="6530"/>
                </a:lnTo>
                <a:lnTo>
                  <a:pt x="17981" y="10037"/>
                </a:lnTo>
                <a:lnTo>
                  <a:pt x="16144" y="10037"/>
                </a:lnTo>
                <a:lnTo>
                  <a:pt x="16144" y="15373"/>
                </a:lnTo>
                <a:cubicBezTo>
                  <a:pt x="16144" y="18140"/>
                  <a:pt x="13568" y="20699"/>
                  <a:pt x="10800" y="20699"/>
                </a:cubicBezTo>
                <a:lnTo>
                  <a:pt x="9138" y="20699"/>
                </a:lnTo>
                <a:cubicBezTo>
                  <a:pt x="6370" y="20699"/>
                  <a:pt x="3794" y="18140"/>
                  <a:pt x="3794" y="15373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4207320" y="3289320"/>
            <a:ext cx="283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...ανιχνευτέ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209520" y="1101600"/>
            <a:ext cx="2209680" cy="15321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6156360" y="216000"/>
            <a:ext cx="2822400" cy="1839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78160" y="250920"/>
            <a:ext cx="1778040" cy="27288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6"/>
          <a:stretch/>
        </p:blipFill>
        <p:spPr>
          <a:xfrm>
            <a:off x="7226280" y="2629080"/>
            <a:ext cx="1714680" cy="25603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7"/>
          <a:stretch/>
        </p:blipFill>
        <p:spPr>
          <a:xfrm>
            <a:off x="2260440" y="2746440"/>
            <a:ext cx="1765440" cy="26557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8"/>
          <a:stretch/>
        </p:blipFill>
        <p:spPr>
          <a:xfrm>
            <a:off x="206280" y="36576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9"/>
          <a:stretch/>
        </p:blipFill>
        <p:spPr>
          <a:xfrm>
            <a:off x="4191120" y="4362480"/>
            <a:ext cx="2908080" cy="19479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31840" y="165240"/>
            <a:ext cx="4775040" cy="636732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rId12" action="ppaction://hlinksldjump"/>
          </p:cNvPr>
          <p:cNvSpPr/>
          <p:nvPr/>
        </p:nvSpPr>
        <p:spPr>
          <a:xfrm>
            <a:off x="6184800" y="6362640"/>
            <a:ext cx="268560" cy="331920"/>
          </a:xfrm>
          <a:custGeom>
            <a:avLst/>
            <a:gdLst>
              <a:gd name="textAreaLeft" fmla="*/ 17280 w 268560"/>
              <a:gd name="textAreaRight" fmla="*/ 251280 w 268560"/>
              <a:gd name="textAreaTop" fmla="*/ 17280 h 331920"/>
              <a:gd name="textAreaBottom" fmla="*/ 314640 h 331920"/>
            </a:gdLst>
            <a:ahLst/>
            <a:rect l="textAreaLeft" t="textAreaTop" r="textAreaRight" b="textAreaBottom"/>
            <a:pathLst>
              <a:path w="21600" h="26689">
                <a:moveTo>
                  <a:pt x="0" y="0"/>
                </a:moveTo>
                <a:lnTo>
                  <a:pt x="21600" y="0"/>
                </a:lnTo>
                <a:lnTo>
                  <a:pt x="21600" y="26689"/>
                </a:lnTo>
                <a:lnTo>
                  <a:pt x="0" y="26689"/>
                </a:lnTo>
                <a:close/>
              </a:path>
              <a:path fill="lightenLess" w="21600" h="266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89">
                <a:moveTo>
                  <a:pt x="21600" y="0"/>
                </a:moveTo>
                <a:lnTo>
                  <a:pt x="21600" y="26689"/>
                </a:lnTo>
                <a:lnTo>
                  <a:pt x="20200" y="25289"/>
                </a:lnTo>
                <a:lnTo>
                  <a:pt x="20200" y="1400"/>
                </a:lnTo>
                <a:close/>
              </a:path>
              <a:path fill="darkenLess" w="21600" h="26689">
                <a:moveTo>
                  <a:pt x="21600" y="26689"/>
                </a:moveTo>
                <a:lnTo>
                  <a:pt x="0" y="26689"/>
                </a:lnTo>
                <a:lnTo>
                  <a:pt x="1400" y="25289"/>
                </a:lnTo>
                <a:lnTo>
                  <a:pt x="20200" y="25289"/>
                </a:lnTo>
                <a:close/>
              </a:path>
              <a:path fill="lighten" w="21600" h="26689">
                <a:moveTo>
                  <a:pt x="0" y="266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89"/>
                </a:lnTo>
                <a:close/>
              </a:path>
              <a:path fill="darken" w="21600" h="26689">
                <a:moveTo>
                  <a:pt x="3794" y="10037"/>
                </a:moveTo>
                <a:lnTo>
                  <a:pt x="7301" y="10037"/>
                </a:lnTo>
                <a:lnTo>
                  <a:pt x="7301" y="15373"/>
                </a:lnTo>
                <a:cubicBezTo>
                  <a:pt x="7301" y="16295"/>
                  <a:pt x="8102" y="17026"/>
                  <a:pt x="9138" y="17026"/>
                </a:cubicBezTo>
                <a:lnTo>
                  <a:pt x="10800" y="17026"/>
                </a:lnTo>
                <a:cubicBezTo>
                  <a:pt x="11836" y="17026"/>
                  <a:pt x="12636" y="16295"/>
                  <a:pt x="12636" y="15373"/>
                </a:cubicBezTo>
                <a:lnTo>
                  <a:pt x="12636" y="10037"/>
                </a:lnTo>
                <a:lnTo>
                  <a:pt x="10800" y="10037"/>
                </a:lnTo>
                <a:lnTo>
                  <a:pt x="14308" y="6530"/>
                </a:lnTo>
                <a:lnTo>
                  <a:pt x="17981" y="10037"/>
                </a:lnTo>
                <a:lnTo>
                  <a:pt x="16144" y="10037"/>
                </a:lnTo>
                <a:lnTo>
                  <a:pt x="16144" y="15373"/>
                </a:lnTo>
                <a:cubicBezTo>
                  <a:pt x="16144" y="18140"/>
                  <a:pt x="13568" y="20699"/>
                  <a:pt x="10800" y="20699"/>
                </a:cubicBezTo>
                <a:lnTo>
                  <a:pt x="9138" y="20699"/>
                </a:lnTo>
                <a:cubicBezTo>
                  <a:pt x="6370" y="20699"/>
                  <a:pt x="3794" y="18140"/>
                  <a:pt x="3794" y="15373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4207320" y="3289320"/>
            <a:ext cx="283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...ανιχνευτέ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209520" y="1101600"/>
            <a:ext cx="2209680" cy="15321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6156360" y="216000"/>
            <a:ext cx="2822400" cy="18399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78160" y="250920"/>
            <a:ext cx="1778040" cy="27288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7226280" y="2629080"/>
            <a:ext cx="1714680" cy="256032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2260440" y="2746440"/>
            <a:ext cx="1765440" cy="2655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8"/>
          <a:stretch/>
        </p:blipFill>
        <p:spPr>
          <a:xfrm>
            <a:off x="206280" y="36576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9"/>
          <a:stretch/>
        </p:blipFill>
        <p:spPr>
          <a:xfrm>
            <a:off x="4191120" y="4362480"/>
            <a:ext cx="2908080" cy="1947960"/>
          </a:xfrm>
          <a:prstGeom prst="rect">
            <a:avLst/>
          </a:prstGeom>
          <a:ln w="0">
            <a:noFill/>
          </a:ln>
        </p:spPr>
      </p:pic>
      <p:sp>
        <p:nvSpPr>
          <p:cNvPr id="503" name="">
            <a:hlinkClick r:id="rId10" action="ppaction://hlinksldjump"/>
          </p:cNvPr>
          <p:cNvSpPr/>
          <p:nvPr/>
        </p:nvSpPr>
        <p:spPr>
          <a:xfrm>
            <a:off x="6184800" y="6362640"/>
            <a:ext cx="268560" cy="331920"/>
          </a:xfrm>
          <a:custGeom>
            <a:avLst/>
            <a:gdLst>
              <a:gd name="textAreaLeft" fmla="*/ 17280 w 268560"/>
              <a:gd name="textAreaRight" fmla="*/ 251280 w 268560"/>
              <a:gd name="textAreaTop" fmla="*/ 17280 h 331920"/>
              <a:gd name="textAreaBottom" fmla="*/ 314640 h 331920"/>
            </a:gdLst>
            <a:ahLst/>
            <a:rect l="textAreaLeft" t="textAreaTop" r="textAreaRight" b="textAreaBottom"/>
            <a:pathLst>
              <a:path w="21600" h="26689">
                <a:moveTo>
                  <a:pt x="0" y="0"/>
                </a:moveTo>
                <a:lnTo>
                  <a:pt x="21600" y="0"/>
                </a:lnTo>
                <a:lnTo>
                  <a:pt x="21600" y="26689"/>
                </a:lnTo>
                <a:lnTo>
                  <a:pt x="0" y="26689"/>
                </a:lnTo>
                <a:close/>
              </a:path>
              <a:path fill="lightenLess" w="21600" h="266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89">
                <a:moveTo>
                  <a:pt x="21600" y="0"/>
                </a:moveTo>
                <a:lnTo>
                  <a:pt x="21600" y="26689"/>
                </a:lnTo>
                <a:lnTo>
                  <a:pt x="20200" y="25289"/>
                </a:lnTo>
                <a:lnTo>
                  <a:pt x="20200" y="1400"/>
                </a:lnTo>
                <a:close/>
              </a:path>
              <a:path fill="darkenLess" w="21600" h="26689">
                <a:moveTo>
                  <a:pt x="21600" y="26689"/>
                </a:moveTo>
                <a:lnTo>
                  <a:pt x="0" y="26689"/>
                </a:lnTo>
                <a:lnTo>
                  <a:pt x="1400" y="25289"/>
                </a:lnTo>
                <a:lnTo>
                  <a:pt x="20200" y="25289"/>
                </a:lnTo>
                <a:close/>
              </a:path>
              <a:path fill="lighten" w="21600" h="26689">
                <a:moveTo>
                  <a:pt x="0" y="266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89"/>
                </a:lnTo>
                <a:close/>
              </a:path>
              <a:path fill="darken" w="21600" h="26689">
                <a:moveTo>
                  <a:pt x="3794" y="10037"/>
                </a:moveTo>
                <a:lnTo>
                  <a:pt x="7301" y="10037"/>
                </a:lnTo>
                <a:lnTo>
                  <a:pt x="7301" y="15373"/>
                </a:lnTo>
                <a:cubicBezTo>
                  <a:pt x="7301" y="16295"/>
                  <a:pt x="8102" y="17026"/>
                  <a:pt x="9138" y="17026"/>
                </a:cubicBezTo>
                <a:lnTo>
                  <a:pt x="10800" y="17026"/>
                </a:lnTo>
                <a:cubicBezTo>
                  <a:pt x="11836" y="17026"/>
                  <a:pt x="12636" y="16295"/>
                  <a:pt x="12636" y="15373"/>
                </a:cubicBezTo>
                <a:lnTo>
                  <a:pt x="12636" y="10037"/>
                </a:lnTo>
                <a:lnTo>
                  <a:pt x="10800" y="10037"/>
                </a:lnTo>
                <a:lnTo>
                  <a:pt x="14308" y="6530"/>
                </a:lnTo>
                <a:lnTo>
                  <a:pt x="17981" y="10037"/>
                </a:lnTo>
                <a:lnTo>
                  <a:pt x="16144" y="10037"/>
                </a:lnTo>
                <a:lnTo>
                  <a:pt x="16144" y="15373"/>
                </a:lnTo>
                <a:cubicBezTo>
                  <a:pt x="16144" y="18140"/>
                  <a:pt x="13568" y="20699"/>
                  <a:pt x="10800" y="20699"/>
                </a:cubicBezTo>
                <a:lnTo>
                  <a:pt x="9138" y="20699"/>
                </a:lnTo>
                <a:cubicBezTo>
                  <a:pt x="6370" y="20699"/>
                  <a:pt x="3794" y="18140"/>
                  <a:pt x="3794" y="15373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257480" y="307800"/>
            <a:ext cx="421632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2720" y="2084400"/>
            <a:ext cx="6261480" cy="143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Ο 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ίνακας τω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στοιχειωδών σωματιδίω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171612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57800" y="3962520"/>
            <a:ext cx="7632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/>
          </p:cNvPr>
          <p:cNvSpPr/>
          <p:nvPr/>
        </p:nvSpPr>
        <p:spPr>
          <a:xfrm>
            <a:off x="5562720" y="4267080"/>
            <a:ext cx="75960" cy="1526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267080"/>
            <a:ext cx="76320" cy="1526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4191120"/>
            <a:ext cx="152640" cy="75960"/>
          </a:xfrm>
          <a:prstGeom prst="diamond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267080"/>
            <a:ext cx="152280" cy="7632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4207320" y="3289320"/>
            <a:ext cx="283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...ανιχνευτέ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209520" y="1101600"/>
            <a:ext cx="2209680" cy="15321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6156360" y="216000"/>
            <a:ext cx="2822400" cy="183996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78160" y="250920"/>
            <a:ext cx="1778040" cy="27288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6"/>
          <a:stretch/>
        </p:blipFill>
        <p:spPr>
          <a:xfrm>
            <a:off x="7226280" y="2629080"/>
            <a:ext cx="1714680" cy="25603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7"/>
          <a:stretch/>
        </p:blipFill>
        <p:spPr>
          <a:xfrm>
            <a:off x="2260440" y="2746440"/>
            <a:ext cx="1765440" cy="26557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8"/>
          <a:stretch/>
        </p:blipFill>
        <p:spPr>
          <a:xfrm>
            <a:off x="206280" y="36576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9"/>
          <a:stretch/>
        </p:blipFill>
        <p:spPr>
          <a:xfrm>
            <a:off x="4191120" y="4362480"/>
            <a:ext cx="2908080" cy="1947960"/>
          </a:xfrm>
          <a:prstGeom prst="rect">
            <a:avLst/>
          </a:prstGeom>
          <a:ln w="0">
            <a:noFill/>
          </a:ln>
        </p:spPr>
      </p:pic>
      <p:sp>
        <p:nvSpPr>
          <p:cNvPr id="513" name="">
            <a:hlinkClick r:id="rId10" action="ppaction://hlinksldjump"/>
          </p:cNvPr>
          <p:cNvSpPr/>
          <p:nvPr/>
        </p:nvSpPr>
        <p:spPr>
          <a:xfrm>
            <a:off x="6184800" y="6362640"/>
            <a:ext cx="268560" cy="331920"/>
          </a:xfrm>
          <a:custGeom>
            <a:avLst/>
            <a:gdLst>
              <a:gd name="textAreaLeft" fmla="*/ 17280 w 268560"/>
              <a:gd name="textAreaRight" fmla="*/ 251280 w 268560"/>
              <a:gd name="textAreaTop" fmla="*/ 17280 h 331920"/>
              <a:gd name="textAreaBottom" fmla="*/ 314640 h 331920"/>
            </a:gdLst>
            <a:ahLst/>
            <a:rect l="textAreaLeft" t="textAreaTop" r="textAreaRight" b="textAreaBottom"/>
            <a:pathLst>
              <a:path w="21600" h="26689">
                <a:moveTo>
                  <a:pt x="0" y="0"/>
                </a:moveTo>
                <a:lnTo>
                  <a:pt x="21600" y="0"/>
                </a:lnTo>
                <a:lnTo>
                  <a:pt x="21600" y="26689"/>
                </a:lnTo>
                <a:lnTo>
                  <a:pt x="0" y="26689"/>
                </a:lnTo>
                <a:close/>
              </a:path>
              <a:path fill="lightenLess" w="21600" h="266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89">
                <a:moveTo>
                  <a:pt x="21600" y="0"/>
                </a:moveTo>
                <a:lnTo>
                  <a:pt x="21600" y="26689"/>
                </a:lnTo>
                <a:lnTo>
                  <a:pt x="20200" y="25289"/>
                </a:lnTo>
                <a:lnTo>
                  <a:pt x="20200" y="1400"/>
                </a:lnTo>
                <a:close/>
              </a:path>
              <a:path fill="darkenLess" w="21600" h="26689">
                <a:moveTo>
                  <a:pt x="21600" y="26689"/>
                </a:moveTo>
                <a:lnTo>
                  <a:pt x="0" y="26689"/>
                </a:lnTo>
                <a:lnTo>
                  <a:pt x="1400" y="25289"/>
                </a:lnTo>
                <a:lnTo>
                  <a:pt x="20200" y="25289"/>
                </a:lnTo>
                <a:close/>
              </a:path>
              <a:path fill="lighten" w="21600" h="26689">
                <a:moveTo>
                  <a:pt x="0" y="266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89"/>
                </a:lnTo>
                <a:close/>
              </a:path>
              <a:path fill="darken" w="21600" h="26689">
                <a:moveTo>
                  <a:pt x="3794" y="10037"/>
                </a:moveTo>
                <a:lnTo>
                  <a:pt x="7301" y="10037"/>
                </a:lnTo>
                <a:lnTo>
                  <a:pt x="7301" y="15373"/>
                </a:lnTo>
                <a:cubicBezTo>
                  <a:pt x="7301" y="16295"/>
                  <a:pt x="8102" y="17026"/>
                  <a:pt x="9138" y="17026"/>
                </a:cubicBezTo>
                <a:lnTo>
                  <a:pt x="10800" y="17026"/>
                </a:lnTo>
                <a:cubicBezTo>
                  <a:pt x="11836" y="17026"/>
                  <a:pt x="12636" y="16295"/>
                  <a:pt x="12636" y="15373"/>
                </a:cubicBezTo>
                <a:lnTo>
                  <a:pt x="12636" y="10037"/>
                </a:lnTo>
                <a:lnTo>
                  <a:pt x="10800" y="10037"/>
                </a:lnTo>
                <a:lnTo>
                  <a:pt x="14308" y="6530"/>
                </a:lnTo>
                <a:lnTo>
                  <a:pt x="17981" y="10037"/>
                </a:lnTo>
                <a:lnTo>
                  <a:pt x="16144" y="10037"/>
                </a:lnTo>
                <a:lnTo>
                  <a:pt x="16144" y="15373"/>
                </a:lnTo>
                <a:cubicBezTo>
                  <a:pt x="16144" y="18140"/>
                  <a:pt x="13568" y="20699"/>
                  <a:pt x="10800" y="20699"/>
                </a:cubicBezTo>
                <a:lnTo>
                  <a:pt x="9138" y="20699"/>
                </a:lnTo>
                <a:cubicBezTo>
                  <a:pt x="6370" y="20699"/>
                  <a:pt x="3794" y="18140"/>
                  <a:pt x="3794" y="15373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71680" y="730080"/>
            <a:ext cx="833436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207320" y="3289320"/>
            <a:ext cx="283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...ανιχνευτέ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209520" y="1101600"/>
            <a:ext cx="2209680" cy="15321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6156360" y="216000"/>
            <a:ext cx="2822400" cy="18399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78160" y="250920"/>
            <a:ext cx="1778040" cy="27288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6"/>
          <a:stretch/>
        </p:blipFill>
        <p:spPr>
          <a:xfrm>
            <a:off x="7226280" y="2629080"/>
            <a:ext cx="1714680" cy="25603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7"/>
          <a:stretch/>
        </p:blipFill>
        <p:spPr>
          <a:xfrm>
            <a:off x="2260440" y="2746440"/>
            <a:ext cx="1765440" cy="26557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8"/>
          <a:stretch/>
        </p:blipFill>
        <p:spPr>
          <a:xfrm>
            <a:off x="206280" y="36576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9"/>
          <a:stretch/>
        </p:blipFill>
        <p:spPr>
          <a:xfrm>
            <a:off x="4191120" y="4362480"/>
            <a:ext cx="2908080" cy="1947960"/>
          </a:xfrm>
          <a:prstGeom prst="rect">
            <a:avLst/>
          </a:prstGeom>
          <a:ln w="0">
            <a:noFill/>
          </a:ln>
        </p:spPr>
      </p:pic>
      <p:sp>
        <p:nvSpPr>
          <p:cNvPr id="523" name="">
            <a:hlinkClick r:id="rId10" action="ppaction://hlinksldjump"/>
          </p:cNvPr>
          <p:cNvSpPr/>
          <p:nvPr/>
        </p:nvSpPr>
        <p:spPr>
          <a:xfrm>
            <a:off x="6184800" y="6362640"/>
            <a:ext cx="268560" cy="331920"/>
          </a:xfrm>
          <a:custGeom>
            <a:avLst/>
            <a:gdLst>
              <a:gd name="textAreaLeft" fmla="*/ 17280 w 268560"/>
              <a:gd name="textAreaRight" fmla="*/ 251280 w 268560"/>
              <a:gd name="textAreaTop" fmla="*/ 17280 h 331920"/>
              <a:gd name="textAreaBottom" fmla="*/ 314640 h 331920"/>
            </a:gdLst>
            <a:ahLst/>
            <a:rect l="textAreaLeft" t="textAreaTop" r="textAreaRight" b="textAreaBottom"/>
            <a:pathLst>
              <a:path w="21600" h="26689">
                <a:moveTo>
                  <a:pt x="0" y="0"/>
                </a:moveTo>
                <a:lnTo>
                  <a:pt x="21600" y="0"/>
                </a:lnTo>
                <a:lnTo>
                  <a:pt x="21600" y="26689"/>
                </a:lnTo>
                <a:lnTo>
                  <a:pt x="0" y="26689"/>
                </a:lnTo>
                <a:close/>
              </a:path>
              <a:path fill="lightenLess" w="21600" h="266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89">
                <a:moveTo>
                  <a:pt x="21600" y="0"/>
                </a:moveTo>
                <a:lnTo>
                  <a:pt x="21600" y="26689"/>
                </a:lnTo>
                <a:lnTo>
                  <a:pt x="20200" y="25289"/>
                </a:lnTo>
                <a:lnTo>
                  <a:pt x="20200" y="1400"/>
                </a:lnTo>
                <a:close/>
              </a:path>
              <a:path fill="darkenLess" w="21600" h="26689">
                <a:moveTo>
                  <a:pt x="21600" y="26689"/>
                </a:moveTo>
                <a:lnTo>
                  <a:pt x="0" y="26689"/>
                </a:lnTo>
                <a:lnTo>
                  <a:pt x="1400" y="25289"/>
                </a:lnTo>
                <a:lnTo>
                  <a:pt x="20200" y="25289"/>
                </a:lnTo>
                <a:close/>
              </a:path>
              <a:path fill="lighten" w="21600" h="26689">
                <a:moveTo>
                  <a:pt x="0" y="266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89"/>
                </a:lnTo>
                <a:close/>
              </a:path>
              <a:path fill="darken" w="21600" h="26689">
                <a:moveTo>
                  <a:pt x="3794" y="10037"/>
                </a:moveTo>
                <a:lnTo>
                  <a:pt x="7301" y="10037"/>
                </a:lnTo>
                <a:lnTo>
                  <a:pt x="7301" y="15373"/>
                </a:lnTo>
                <a:cubicBezTo>
                  <a:pt x="7301" y="16295"/>
                  <a:pt x="8102" y="17026"/>
                  <a:pt x="9138" y="17026"/>
                </a:cubicBezTo>
                <a:lnTo>
                  <a:pt x="10800" y="17026"/>
                </a:lnTo>
                <a:cubicBezTo>
                  <a:pt x="11836" y="17026"/>
                  <a:pt x="12636" y="16295"/>
                  <a:pt x="12636" y="15373"/>
                </a:cubicBezTo>
                <a:lnTo>
                  <a:pt x="12636" y="10037"/>
                </a:lnTo>
                <a:lnTo>
                  <a:pt x="10800" y="10037"/>
                </a:lnTo>
                <a:lnTo>
                  <a:pt x="14308" y="6530"/>
                </a:lnTo>
                <a:lnTo>
                  <a:pt x="17981" y="10037"/>
                </a:lnTo>
                <a:lnTo>
                  <a:pt x="16144" y="10037"/>
                </a:lnTo>
                <a:lnTo>
                  <a:pt x="16144" y="15373"/>
                </a:lnTo>
                <a:cubicBezTo>
                  <a:pt x="16144" y="18140"/>
                  <a:pt x="13568" y="20699"/>
                  <a:pt x="10800" y="20699"/>
                </a:cubicBezTo>
                <a:lnTo>
                  <a:pt x="9138" y="20699"/>
                </a:lnTo>
                <a:cubicBezTo>
                  <a:pt x="6370" y="20699"/>
                  <a:pt x="3794" y="18140"/>
                  <a:pt x="3794" y="15373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876920" y="266760"/>
            <a:ext cx="406404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3120" y="2057400"/>
            <a:ext cx="597204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και ο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αλληλεπιδράσεις του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0" y="3657600"/>
          <a:ext cx="2416320" cy="112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657600"/>
                    <a:ext cx="241632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95480" y="10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22040" y="1254240"/>
            <a:ext cx="6595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από το 1967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inberg, Salam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κα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Glash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30360" y="2030400"/>
            <a:ext cx="269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Ηλεκτρομαγνητικ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αλληλεπίδρα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27480" y="201132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Ασθεν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αλληλεπίδρα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20680" y="1995480"/>
            <a:ext cx="639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Times New Roman"/>
              </a:rPr>
              <a:t>Ηλεκτρασθενής αλληλεπίδρασ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6640" y="3274920"/>
            <a:ext cx="7506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...με τη βοήθεια του σωματίδιου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iggs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 που δίνε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μάζα στα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 και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ενώ κρατά άμαζο το φωτόνιο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2120" y="4941720"/>
            <a:ext cx="8096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...τα πειράματα που ξεκίνησαν το φθινόπωρο του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έχουν ως κύριο σκοπό την ανακάλυψη του σωματιδίου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ig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82000" y="1217520"/>
            <a:ext cx="3871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...και άλλη μία διευκρίνησ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6320" y="2081160"/>
            <a:ext cx="74106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... η ισχυρή πυρηνική αλληλεπίδραση μεταξύ 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ουκλεονίων (και των άλλων αδρονίων) αντικαθίστατα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από τη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25760" y="3500280"/>
            <a:ext cx="604188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Κβαντική Χρωμοδυναμικ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oss, Politzer, Wilzce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3960" y="5176800"/>
            <a:ext cx="781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...που περιγράφει τις αλληλεπιδράσεις μεταξύ των κουάρ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1413000"/>
            <a:ext cx="8424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...οι τρεις γενιές των σωματιδίων και το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igg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η ηλεκτρασθενής αλληλεπίδραση κα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η Κβαντική Χρωμοδυναμικ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αποτελούν το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14400" y="3087720"/>
            <a:ext cx="5200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Καθιερωμένο Πρότυπ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25760" y="4498920"/>
            <a:ext cx="58636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...που συμφωνεί (με μεγάλη ακρίβεια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με όλα τα έως σήμερα πειράματα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671840" y="2438280"/>
            <a:ext cx="510336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και τα πειράματα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πώς γίνονται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16765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55600" y="1523880"/>
            <a:ext cx="3707640" cy="14346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τα 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σύγχρον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πειράματα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2280" y="3809880"/>
            <a:ext cx="26604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χρειαζόμαστ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66360" y="3276720"/>
            <a:ext cx="2232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επιταχυντέ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2680" y="4373640"/>
            <a:ext cx="200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ανιχνευτέ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327672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629400" y="2743200"/>
            <a:ext cx="795240" cy="1219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477120" y="4572000"/>
            <a:ext cx="121896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3:26:58Z</dcterms:created>
  <dc:creator>NDT</dc:creator>
  <dc:description/>
  <dc:language>en-US</dc:language>
  <cp:lastModifiedBy>ndt</cp:lastModifiedBy>
  <dcterms:modified xsi:type="dcterms:W3CDTF">2010-03-09T09:52:57Z</dcterms:modified>
  <cp:revision>72</cp:revision>
  <dc:subject/>
  <dc:title>No Slide Title</dc:title>
</cp:coreProperties>
</file>