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401-67AE-4044-B5A0-26615207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4BD-4E9D-40BC-AF54-C6C7C63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6AC-93D0-485B-AE18-F3375F68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962-15AF-488B-930A-66E910B8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453-354C-4343-AD15-434CE60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CE1-2526-44AD-ADCF-1E0B6DED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7C6-80C0-41AD-966E-DDB0604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357-1CA7-4AF2-AD7F-4B846EA6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339-DF6E-40A1-B2C6-7742A79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B60-6F4A-4756-A4D4-E624055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0B0-9B20-4497-925B-24E0EA6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598-82A1-4FEF-8D4C-7849B19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C5A-3CA6-4BDE-B6C4-141EDED6C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er1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nter2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nter3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16720" y="22780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6304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52:13Z</dcterms:created>
  <dc:creator>n.d. tracas</dc:creator>
  <dc:description/>
  <dc:language>en-US</dc:language>
  <cp:lastModifiedBy>nick</cp:lastModifiedBy>
  <dcterms:modified xsi:type="dcterms:W3CDTF">2005-01-19T22:04:06Z</dcterms:modified>
  <cp:revision>11</cp:revision>
  <dc:subject/>
  <dc:title>No Slide Title</dc:title>
</cp:coreProperties>
</file>